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1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wmf" ContentType="image/x-wmf"/>
  <Override PartName="/ppt/media/image40.wmf" ContentType="image/x-wmf"/>
  <Override PartName="/ppt/media/image33.png" ContentType="image/png"/>
  <Override PartName="/ppt/media/image30.wmf" ContentType="image/x-wmf"/>
  <Override PartName="/ppt/media/image55.png" ContentType="image/png"/>
  <Override PartName="/ppt/media/image3.wmf" ContentType="image/x-wmf"/>
  <Override PartName="/ppt/media/image15.wmf" ContentType="image/x-wmf"/>
  <Override PartName="/ppt/media/image58.png" ContentType="image/png"/>
  <Override PartName="/ppt/media/image56.png" ContentType="image/png"/>
  <Override PartName="/ppt/media/image21.wmf" ContentType="image/x-wmf"/>
  <Override PartName="/ppt/media/image64.png" ContentType="image/png"/>
  <Override PartName="/ppt/media/image63.png" ContentType="image/png"/>
  <Override PartName="/ppt/media/image20.wmf" ContentType="image/x-wmf"/>
  <Override PartName="/ppt/media/image70.jpeg" ContentType="image/jpeg"/>
  <Override PartName="/ppt/media/image71.png" ContentType="image/png"/>
  <Override PartName="/ppt/media/image32.wmf" ContentType="image/x-wmf"/>
  <Override PartName="/ppt/media/image62.wmf" ContentType="image/x-wmf"/>
  <Override PartName="/ppt/media/image22.png" ContentType="image/png"/>
  <Override PartName="/ppt/media/image69.jpeg" ContentType="image/jpeg"/>
  <Override PartName="/ppt/media/image9.wmf" ContentType="image/x-wmf"/>
  <Override PartName="/ppt/media/image39.wmf" ContentType="image/x-wmf"/>
  <Override PartName="/ppt/media/image67.wmf" ContentType="image/x-wmf"/>
  <Override PartName="/ppt/media/image29.wmf" ContentType="image/x-wmf"/>
  <Override PartName="/ppt/media/image31.wmf" ContentType="image/x-wmf"/>
  <Override PartName="/ppt/media/image28.png" ContentType="image/png"/>
  <Override PartName="/ppt/media/image65.png" ContentType="image/png"/>
  <Override PartName="/ppt/media/image24.png" ContentType="image/png"/>
  <Override PartName="/ppt/media/image61.png" ContentType="image/png"/>
  <Override PartName="/ppt/media/image60.wmf" ContentType="image/x-wmf"/>
  <Override PartName="/ppt/media/image2.wmf" ContentType="image/x-wmf"/>
  <Override PartName="/ppt/media/image57.png" ContentType="image/png"/>
  <Override PartName="/ppt/media/image14.wmf" ContentType="image/x-wmf"/>
  <Override PartName="/ppt/media/image23.wmf" ContentType="image/x-wmf"/>
  <Override PartName="/ppt/media/image66.png" ContentType="image/png"/>
  <Override PartName="/ppt/media/image16.wmf" ContentType="image/x-wmf"/>
  <Override PartName="/ppt/media/image4.wmf" ContentType="image/x-wmf"/>
  <Override PartName="/ppt/media/image34.wmf" ContentType="image/x-wmf"/>
  <Override PartName="/ppt/media/image52.png" ContentType="image/png"/>
  <Override PartName="/ppt/media/image17.wmf" ContentType="image/x-wmf"/>
  <Override PartName="/ppt/media/image27.jpeg" ContentType="image/jpeg"/>
  <Override PartName="/ppt/media/image5.wmf" ContentType="image/x-wmf"/>
  <Override PartName="/ppt/media/image35.wmf" ContentType="image/x-wmf"/>
  <Override PartName="/ppt/media/image25.png" ContentType="image/png"/>
  <Override PartName="/ppt/media/image53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68.jpeg" ContentType="image/jpeg"/>
  <Override PartName="/ppt/media/image36.wmf" ContentType="image/x-wmf"/>
  <Override PartName="/ppt/media/image26.png" ContentType="image/png"/>
  <Override PartName="/ppt/media/image54.png" ContentType="image/png"/>
  <Override PartName="/ppt/media/image11.wmf" ContentType="image/x-wmf"/>
  <Override PartName="/ppt/media/image50.png" ContentType="image/png"/>
  <Override PartName="/ppt/media/image12.png" ContentType="image/png"/>
  <Override PartName="/ppt/media/image49.png" ContentType="image/png"/>
  <Override PartName="/ppt/media/image19.wmf" ContentType="image/x-wmf"/>
  <Override PartName="/ppt/media/image7.wmf" ContentType="image/x-wmf"/>
  <Override PartName="/ppt/media/image37.wmf" ContentType="image/x-wmf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DC4-4B81-4339-99F8-2EEE0122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4CC-709E-4D2E-8518-A7FEE75E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216-9476-4670-9708-B472D9C2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181-AEA1-4BD1-BE78-52F6A1EA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BE9-210E-4582-9809-8F4C0025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A30-8A32-4068-A9CF-5BBBA705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D8A-2A86-46C4-AF78-2B027DF7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BCF-5B65-4DDB-A57A-D2E4F744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55C-41A0-4CDF-934D-8142182A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044-DC8C-4A4F-B7D3-AABA9180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9C8A-9B80-48FB-B86A-AD6F5141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C629-5AE4-47FD-8A3C-34A34C02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F37E-C139-4457-88F5-BE1E9994B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image" Target="../media/image1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1.wmf"/><Relationship Id="rId18" Type="http://schemas.openxmlformats.org/officeDocument/2006/relationships/image" Target="../media/image12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image" Target="../media/image12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image" Target="../media/image33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6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7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39.wmf"/><Relationship Id="rId23" Type="http://schemas.openxmlformats.org/officeDocument/2006/relationships/image" Target="../media/image12.png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40.wmf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41.wmf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png"/><Relationship Id="rId4" Type="http://schemas.openxmlformats.org/officeDocument/2006/relationships/image" Target="../media/image12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0.wmf"/><Relationship Id="rId9" Type="http://schemas.openxmlformats.org/officeDocument/2006/relationships/image" Target="../media/image61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2.wmf"/><Relationship Id="rId12" Type="http://schemas.openxmlformats.org/officeDocument/2006/relationships/image" Target="../media/image63.png"/><Relationship Id="rId13" Type="http://schemas.openxmlformats.org/officeDocument/2006/relationships/image" Target="../media/image64.png"/><Relationship Id="rId14" Type="http://schemas.openxmlformats.org/officeDocument/2006/relationships/image" Target="../media/image65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360" y="4428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31240" y="0"/>
            <a:ext cx="340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CAMERA FLASH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4410000" cy="226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21680" y="517680"/>
            <a:ext cx="2315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010280" y="398520"/>
          <a:ext cx="1447920" cy="66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398520"/>
                    <a:ext cx="1447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876920" y="1066680"/>
          <a:ext cx="358128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1066680"/>
                    <a:ext cx="3581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095880" y="0"/>
          <a:ext cx="1981440" cy="376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5880" y="0"/>
                    <a:ext cx="19814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228600" y="853920"/>
            <a:ext cx="6781680" cy="2544840"/>
            <a:chOff x="228600" y="853920"/>
            <a:chExt cx="6781680" cy="2544840"/>
          </a:xfrm>
        </p:grpSpPr>
        <p:graphicFrame>
          <p:nvGraphicFramePr>
            <p:cNvPr id="52" name=""/>
            <p:cNvGraphicFramePr/>
            <p:nvPr/>
          </p:nvGraphicFramePr>
          <p:xfrm>
            <a:off x="502920" y="2876400"/>
            <a:ext cx="2971440" cy="376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02920" y="2876400"/>
                      <a:ext cx="2971440" cy="37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228600" y="853920"/>
              <a:ext cx="6781680" cy="2544840"/>
            </a:xfrm>
            <a:custGeom>
              <a:avLst/>
              <a:gdLst/>
              <a:ahLst/>
              <a:rect l="l" t="t" r="r" b="b"/>
              <a:pathLst>
                <a:path w="4272" h="1603">
                  <a:moveTo>
                    <a:pt x="4272" y="451"/>
                  </a:moveTo>
                  <a:cubicBezTo>
                    <a:pt x="4268" y="402"/>
                    <a:pt x="4270" y="312"/>
                    <a:pt x="4243" y="259"/>
                  </a:cubicBezTo>
                  <a:cubicBezTo>
                    <a:pt x="4200" y="173"/>
                    <a:pt x="4126" y="111"/>
                    <a:pt x="4032" y="96"/>
                  </a:cubicBezTo>
                  <a:cubicBezTo>
                    <a:pt x="3950" y="53"/>
                    <a:pt x="3853" y="58"/>
                    <a:pt x="3763" y="48"/>
                  </a:cubicBezTo>
                  <a:cubicBezTo>
                    <a:pt x="3587" y="29"/>
                    <a:pt x="3412" y="10"/>
                    <a:pt x="3235" y="0"/>
                  </a:cubicBezTo>
                  <a:cubicBezTo>
                    <a:pt x="3130" y="3"/>
                    <a:pt x="3024" y="3"/>
                    <a:pt x="2919" y="9"/>
                  </a:cubicBezTo>
                  <a:cubicBezTo>
                    <a:pt x="2861" y="12"/>
                    <a:pt x="2809" y="59"/>
                    <a:pt x="2755" y="76"/>
                  </a:cubicBezTo>
                  <a:cubicBezTo>
                    <a:pt x="2729" y="103"/>
                    <a:pt x="2726" y="127"/>
                    <a:pt x="2717" y="163"/>
                  </a:cubicBezTo>
                  <a:cubicBezTo>
                    <a:pt x="2720" y="182"/>
                    <a:pt x="2724" y="235"/>
                    <a:pt x="2736" y="259"/>
                  </a:cubicBezTo>
                  <a:cubicBezTo>
                    <a:pt x="2790" y="370"/>
                    <a:pt x="2961" y="381"/>
                    <a:pt x="3063" y="403"/>
                  </a:cubicBezTo>
                  <a:cubicBezTo>
                    <a:pt x="3098" y="411"/>
                    <a:pt x="3133" y="416"/>
                    <a:pt x="3168" y="422"/>
                  </a:cubicBezTo>
                  <a:cubicBezTo>
                    <a:pt x="3178" y="419"/>
                    <a:pt x="3194" y="422"/>
                    <a:pt x="3197" y="412"/>
                  </a:cubicBezTo>
                  <a:cubicBezTo>
                    <a:pt x="3200" y="401"/>
                    <a:pt x="3189" y="387"/>
                    <a:pt x="3178" y="384"/>
                  </a:cubicBezTo>
                  <a:cubicBezTo>
                    <a:pt x="3134" y="373"/>
                    <a:pt x="3088" y="377"/>
                    <a:pt x="3043" y="374"/>
                  </a:cubicBezTo>
                  <a:cubicBezTo>
                    <a:pt x="2986" y="377"/>
                    <a:pt x="2928" y="380"/>
                    <a:pt x="2871" y="384"/>
                  </a:cubicBezTo>
                  <a:cubicBezTo>
                    <a:pt x="2842" y="386"/>
                    <a:pt x="2809" y="378"/>
                    <a:pt x="2784" y="393"/>
                  </a:cubicBezTo>
                  <a:cubicBezTo>
                    <a:pt x="2770" y="401"/>
                    <a:pt x="2777" y="425"/>
                    <a:pt x="2775" y="441"/>
                  </a:cubicBezTo>
                  <a:cubicBezTo>
                    <a:pt x="2765" y="519"/>
                    <a:pt x="2771" y="604"/>
                    <a:pt x="2727" y="672"/>
                  </a:cubicBezTo>
                  <a:cubicBezTo>
                    <a:pt x="2712" y="729"/>
                    <a:pt x="2694" y="796"/>
                    <a:pt x="2659" y="844"/>
                  </a:cubicBezTo>
                  <a:cubicBezTo>
                    <a:pt x="2656" y="854"/>
                    <a:pt x="2655" y="864"/>
                    <a:pt x="2650" y="873"/>
                  </a:cubicBezTo>
                  <a:cubicBezTo>
                    <a:pt x="2639" y="893"/>
                    <a:pt x="2611" y="931"/>
                    <a:pt x="2611" y="931"/>
                  </a:cubicBezTo>
                  <a:cubicBezTo>
                    <a:pt x="2590" y="999"/>
                    <a:pt x="2523" y="1050"/>
                    <a:pt x="2477" y="1104"/>
                  </a:cubicBezTo>
                  <a:cubicBezTo>
                    <a:pt x="2470" y="1113"/>
                    <a:pt x="2467" y="1126"/>
                    <a:pt x="2458" y="1132"/>
                  </a:cubicBezTo>
                  <a:cubicBezTo>
                    <a:pt x="2415" y="1160"/>
                    <a:pt x="2164" y="1160"/>
                    <a:pt x="2151" y="1161"/>
                  </a:cubicBezTo>
                  <a:cubicBezTo>
                    <a:pt x="2078" y="1172"/>
                    <a:pt x="2010" y="1182"/>
                    <a:pt x="1939" y="1200"/>
                  </a:cubicBezTo>
                  <a:cubicBezTo>
                    <a:pt x="1849" y="1188"/>
                    <a:pt x="1761" y="1173"/>
                    <a:pt x="1671" y="1161"/>
                  </a:cubicBezTo>
                  <a:cubicBezTo>
                    <a:pt x="1496" y="1172"/>
                    <a:pt x="1325" y="1201"/>
                    <a:pt x="1152" y="1228"/>
                  </a:cubicBezTo>
                  <a:cubicBezTo>
                    <a:pt x="928" y="1216"/>
                    <a:pt x="718" y="1178"/>
                    <a:pt x="499" y="1132"/>
                  </a:cubicBezTo>
                  <a:cubicBezTo>
                    <a:pt x="424" y="1081"/>
                    <a:pt x="311" y="1109"/>
                    <a:pt x="231" y="1113"/>
                  </a:cubicBezTo>
                  <a:cubicBezTo>
                    <a:pt x="212" y="1126"/>
                    <a:pt x="192" y="1139"/>
                    <a:pt x="173" y="1152"/>
                  </a:cubicBezTo>
                  <a:cubicBezTo>
                    <a:pt x="161" y="1160"/>
                    <a:pt x="163" y="1179"/>
                    <a:pt x="154" y="1190"/>
                  </a:cubicBezTo>
                  <a:cubicBezTo>
                    <a:pt x="147" y="1199"/>
                    <a:pt x="135" y="1203"/>
                    <a:pt x="125" y="1209"/>
                  </a:cubicBezTo>
                  <a:cubicBezTo>
                    <a:pt x="114" y="1262"/>
                    <a:pt x="91" y="1297"/>
                    <a:pt x="67" y="1344"/>
                  </a:cubicBezTo>
                  <a:cubicBezTo>
                    <a:pt x="40" y="1398"/>
                    <a:pt x="20" y="1468"/>
                    <a:pt x="0" y="1526"/>
                  </a:cubicBezTo>
                  <a:cubicBezTo>
                    <a:pt x="18" y="1593"/>
                    <a:pt x="33" y="1586"/>
                    <a:pt x="96" y="1603"/>
                  </a:cubicBezTo>
                  <a:cubicBezTo>
                    <a:pt x="215" y="1596"/>
                    <a:pt x="257" y="1590"/>
                    <a:pt x="355" y="1564"/>
                  </a:cubicBezTo>
                  <a:cubicBezTo>
                    <a:pt x="570" y="1576"/>
                    <a:pt x="470" y="1574"/>
                    <a:pt x="653" y="157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" name=""/>
            <p:cNvGraphicFramePr/>
            <p:nvPr/>
          </p:nvGraphicFramePr>
          <p:xfrm>
            <a:off x="3627360" y="2908440"/>
            <a:ext cx="1980720" cy="368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627360" y="2908440"/>
                      <a:ext cx="198072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" name=""/>
          <p:cNvGrpSpPr/>
          <p:nvPr/>
        </p:nvGrpSpPr>
        <p:grpSpPr>
          <a:xfrm>
            <a:off x="6708600" y="1488960"/>
            <a:ext cx="2413080" cy="1133280"/>
            <a:chOff x="6708600" y="1488960"/>
            <a:chExt cx="2413080" cy="1133280"/>
          </a:xfrm>
        </p:grpSpPr>
        <p:sp>
          <p:nvSpPr>
            <p:cNvPr id="58" name=""/>
            <p:cNvSpPr/>
            <p:nvPr/>
          </p:nvSpPr>
          <p:spPr>
            <a:xfrm>
              <a:off x="6708600" y="1488960"/>
              <a:ext cx="1818000" cy="685800"/>
            </a:xfrm>
            <a:custGeom>
              <a:avLst/>
              <a:gdLst/>
              <a:ahLst/>
              <a:rect l="l" t="t" r="r" b="b"/>
              <a:pathLst>
                <a:path w="1145" h="432">
                  <a:moveTo>
                    <a:pt x="1104" y="432"/>
                  </a:moveTo>
                  <a:cubicBezTo>
                    <a:pt x="1113" y="390"/>
                    <a:pt x="1130" y="366"/>
                    <a:pt x="1142" y="326"/>
                  </a:cubicBezTo>
                  <a:cubicBezTo>
                    <a:pt x="1141" y="308"/>
                    <a:pt x="1145" y="212"/>
                    <a:pt x="1123" y="173"/>
                  </a:cubicBezTo>
                  <a:cubicBezTo>
                    <a:pt x="1048" y="39"/>
                    <a:pt x="924" y="25"/>
                    <a:pt x="778" y="19"/>
                  </a:cubicBezTo>
                  <a:cubicBezTo>
                    <a:pt x="656" y="14"/>
                    <a:pt x="535" y="12"/>
                    <a:pt x="413" y="9"/>
                  </a:cubicBezTo>
                  <a:cubicBezTo>
                    <a:pt x="278" y="0"/>
                    <a:pt x="202" y="8"/>
                    <a:pt x="77" y="38"/>
                  </a:cubicBezTo>
                  <a:cubicBezTo>
                    <a:pt x="59" y="66"/>
                    <a:pt x="37" y="87"/>
                    <a:pt x="19" y="115"/>
                  </a:cubicBezTo>
                  <a:cubicBezTo>
                    <a:pt x="16" y="124"/>
                    <a:pt x="0" y="176"/>
                    <a:pt x="0" y="182"/>
                  </a:cubicBezTo>
                  <a:cubicBezTo>
                    <a:pt x="13" y="350"/>
                    <a:pt x="198" y="334"/>
                    <a:pt x="326" y="345"/>
                  </a:cubicBezTo>
                  <a:cubicBezTo>
                    <a:pt x="387" y="350"/>
                    <a:pt x="448" y="362"/>
                    <a:pt x="509" y="365"/>
                  </a:cubicBezTo>
                  <a:cubicBezTo>
                    <a:pt x="627" y="370"/>
                    <a:pt x="746" y="371"/>
                    <a:pt x="864" y="374"/>
                  </a:cubicBezTo>
                  <a:cubicBezTo>
                    <a:pt x="1079" y="385"/>
                    <a:pt x="1011" y="339"/>
                    <a:pt x="1104" y="432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3600" y="2041560"/>
              <a:ext cx="209808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orst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max voltage dro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31280" y="304920"/>
            <a:ext cx="8218800" cy="3960720"/>
            <a:chOff x="431280" y="304920"/>
            <a:chExt cx="8218800" cy="3960720"/>
          </a:xfrm>
        </p:grpSpPr>
        <p:sp>
          <p:nvSpPr>
            <p:cNvPr id="61" name=""/>
            <p:cNvSpPr/>
            <p:nvPr/>
          </p:nvSpPr>
          <p:spPr>
            <a:xfrm>
              <a:off x="6737400" y="304920"/>
              <a:ext cx="1912680" cy="450720"/>
            </a:xfrm>
            <a:custGeom>
              <a:avLst/>
              <a:gdLst/>
              <a:ahLst/>
              <a:rect l="l" t="t" r="r" b="b"/>
              <a:pathLst>
                <a:path w="1205" h="284">
                  <a:moveTo>
                    <a:pt x="345" y="16"/>
                  </a:moveTo>
                  <a:cubicBezTo>
                    <a:pt x="297" y="0"/>
                    <a:pt x="276" y="31"/>
                    <a:pt x="230" y="35"/>
                  </a:cubicBezTo>
                  <a:cubicBezTo>
                    <a:pt x="173" y="40"/>
                    <a:pt x="115" y="41"/>
                    <a:pt x="57" y="44"/>
                  </a:cubicBezTo>
                  <a:cubicBezTo>
                    <a:pt x="26" y="77"/>
                    <a:pt x="13" y="107"/>
                    <a:pt x="0" y="150"/>
                  </a:cubicBezTo>
                  <a:cubicBezTo>
                    <a:pt x="3" y="166"/>
                    <a:pt x="1" y="184"/>
                    <a:pt x="9" y="198"/>
                  </a:cubicBezTo>
                  <a:cubicBezTo>
                    <a:pt x="25" y="226"/>
                    <a:pt x="109" y="249"/>
                    <a:pt x="134" y="256"/>
                  </a:cubicBezTo>
                  <a:cubicBezTo>
                    <a:pt x="159" y="263"/>
                    <a:pt x="185" y="269"/>
                    <a:pt x="211" y="275"/>
                  </a:cubicBezTo>
                  <a:cubicBezTo>
                    <a:pt x="224" y="278"/>
                    <a:pt x="249" y="284"/>
                    <a:pt x="249" y="284"/>
                  </a:cubicBezTo>
                  <a:cubicBezTo>
                    <a:pt x="363" y="273"/>
                    <a:pt x="469" y="254"/>
                    <a:pt x="585" y="246"/>
                  </a:cubicBezTo>
                  <a:cubicBezTo>
                    <a:pt x="866" y="277"/>
                    <a:pt x="700" y="267"/>
                    <a:pt x="1084" y="256"/>
                  </a:cubicBezTo>
                  <a:cubicBezTo>
                    <a:pt x="1122" y="243"/>
                    <a:pt x="1148" y="223"/>
                    <a:pt x="1180" y="198"/>
                  </a:cubicBezTo>
                  <a:cubicBezTo>
                    <a:pt x="1187" y="179"/>
                    <a:pt x="1193" y="159"/>
                    <a:pt x="1200" y="140"/>
                  </a:cubicBezTo>
                  <a:cubicBezTo>
                    <a:pt x="1205" y="125"/>
                    <a:pt x="1180" y="99"/>
                    <a:pt x="1171" y="92"/>
                  </a:cubicBezTo>
                  <a:cubicBezTo>
                    <a:pt x="1122" y="53"/>
                    <a:pt x="1039" y="49"/>
                    <a:pt x="979" y="35"/>
                  </a:cubicBezTo>
                  <a:cubicBezTo>
                    <a:pt x="762" y="42"/>
                    <a:pt x="761" y="52"/>
                    <a:pt x="595" y="35"/>
                  </a:cubicBezTo>
                  <a:cubicBezTo>
                    <a:pt x="573" y="33"/>
                    <a:pt x="550" y="28"/>
                    <a:pt x="528" y="25"/>
                  </a:cubicBezTo>
                  <a:cubicBezTo>
                    <a:pt x="502" y="22"/>
                    <a:pt x="451" y="16"/>
                    <a:pt x="451" y="1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1280" y="3483000"/>
              <a:ext cx="6084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nstraint in V_CF sets the range for feasible batt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" name=""/>
            <p:cNvGraphicFramePr/>
            <p:nvPr/>
          </p:nvGraphicFramePr>
          <p:xfrm>
            <a:off x="1539720" y="3895920"/>
            <a:ext cx="3048120" cy="369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539720" y="3895920"/>
                      <a:ext cx="304812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5" name=""/>
          <p:cNvGrpSpPr/>
          <p:nvPr/>
        </p:nvGrpSpPr>
        <p:grpSpPr>
          <a:xfrm>
            <a:off x="6858000" y="2666880"/>
            <a:ext cx="2209680" cy="1155600"/>
            <a:chOff x="6858000" y="2666880"/>
            <a:chExt cx="2209680" cy="1155600"/>
          </a:xfrm>
        </p:grpSpPr>
        <p:graphicFrame>
          <p:nvGraphicFramePr>
            <p:cNvPr id="66" name=""/>
            <p:cNvGraphicFramePr/>
            <p:nvPr/>
          </p:nvGraphicFramePr>
          <p:xfrm>
            <a:off x="6858000" y="2666880"/>
            <a:ext cx="2209680" cy="709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858000" y="2666880"/>
                      <a:ext cx="2209680" cy="7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7283160" y="3429000"/>
            <a:ext cx="1434960" cy="3934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283160" y="3429000"/>
                      <a:ext cx="143496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" name=""/>
          <p:cNvSpPr/>
          <p:nvPr/>
        </p:nvSpPr>
        <p:spPr>
          <a:xfrm>
            <a:off x="852480" y="4556160"/>
            <a:ext cx="32713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CHARGING TIM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09480" y="3886200"/>
            <a:ext cx="7012080" cy="2666880"/>
            <a:chOff x="609480" y="3886200"/>
            <a:chExt cx="7012080" cy="2666880"/>
          </a:xfrm>
        </p:grpSpPr>
        <p:graphicFrame>
          <p:nvGraphicFramePr>
            <p:cNvPr id="72" name=""/>
            <p:cNvGraphicFramePr/>
            <p:nvPr/>
          </p:nvGraphicFramePr>
          <p:xfrm>
            <a:off x="609480" y="4952880"/>
            <a:ext cx="4953240" cy="3733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609480" y="4952880"/>
                      <a:ext cx="4953240" cy="3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6019920" y="3886200"/>
                  <a:ext cx="1601640" cy="26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τ</m:t>
                                  </m:r>
                                </m:e>
                              </m:mr>
                            </m:m>
                          </m:e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 </m:t>
                                      </m:r>
                                      <m:f>
                                        <m:num>
                                          <m:r>
                                            <m:t xml:space="preserve">t</m:t>
                                          </m:r>
                                        </m:num>
                                        <m:den>
                                          <m:r>
                                            <m:t xml:space="preserve">τ</m:t>
                                          </m:r>
                                        </m:den>
                                      </m:f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8</m:t>
                                  </m:r>
                                </m:e>
                              </m:mr>
                            </m:m>
                          </m:e>
                        </m:mr>
                        <m:m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τ</m:t>
                                  </m:r>
                                </m:e>
                              </m:mr>
                              <m:m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τ</m:t>
                                        </m:r>
                                      </m:e>
                                    </m:mr>
                                    <m:mr>
                                      <m:e>
                                        <m:m>
                                          <m:mr>
                                            <m:e>
                                              <m:r>
                                                <m:t xml:space="preserve">4</m:t>
                                              </m:r>
                                              <m:r>
                                                <m:t xml:space="preserve">τ</m:t>
                                              </m:r>
                                            </m:e>
                                          </m:mr>
                                          <m:mr>
                                            <m:e>
                                              <m:r>
                                                <m:t xml:space="preserve">5</m:t>
                                              </m:r>
                                              <m:r>
                                                <m:t xml:space="preserve">τ</m:t>
                                              </m:r>
                                            </m:e>
                                          </m:mr>
                                        </m:m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5</m:t>
                                  </m:r>
                                </m:e>
                              </m:mr>
                              <m:m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498</m:t>
                                        </m:r>
                                      </m:e>
                                    </m:mr>
                                    <m:mr>
                                      <m:e>
                                        <m:m>
                                          <m:mr>
                                            <m:e>
                                              <m:r>
                                                <m:t xml:space="preserve">0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.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0183</m:t>
                                              </m:r>
                                            </m:e>
                                          </m:mr>
                                          <m:mr>
                                            <m:e>
                                              <m:r>
                                                <m:t xml:space="preserve">0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.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0067</m:t>
                                              </m:r>
                                            </m:e>
                                          </m:mr>
                                        </m:m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762120" y="4878360"/>
            <a:ext cx="7180200" cy="1233360"/>
            <a:chOff x="762120" y="4878360"/>
            <a:chExt cx="7180200" cy="1233360"/>
          </a:xfrm>
        </p:grpSpPr>
        <p:graphicFrame>
          <p:nvGraphicFramePr>
            <p:cNvPr id="76" name=""/>
            <p:cNvGraphicFramePr/>
            <p:nvPr/>
          </p:nvGraphicFramePr>
          <p:xfrm>
            <a:off x="762120" y="5410080"/>
            <a:ext cx="2971800" cy="70164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762120" y="5410080"/>
                      <a:ext cx="2971800" cy="70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5818320" y="4878360"/>
              <a:ext cx="2124000" cy="517680"/>
            </a:xfrm>
            <a:custGeom>
              <a:avLst/>
              <a:gdLst/>
              <a:ahLst/>
              <a:rect l="l" t="t" r="r" b="b"/>
              <a:pathLst>
                <a:path w="1338" h="326">
                  <a:moveTo>
                    <a:pt x="178" y="71"/>
                  </a:moveTo>
                  <a:cubicBezTo>
                    <a:pt x="133" y="42"/>
                    <a:pt x="114" y="59"/>
                    <a:pt x="65" y="71"/>
                  </a:cubicBezTo>
                  <a:cubicBezTo>
                    <a:pt x="0" y="115"/>
                    <a:pt x="29" y="183"/>
                    <a:pt x="84" y="222"/>
                  </a:cubicBezTo>
                  <a:cubicBezTo>
                    <a:pt x="174" y="286"/>
                    <a:pt x="286" y="290"/>
                    <a:pt x="395" y="298"/>
                  </a:cubicBezTo>
                  <a:cubicBezTo>
                    <a:pt x="662" y="318"/>
                    <a:pt x="931" y="319"/>
                    <a:pt x="1198" y="326"/>
                  </a:cubicBezTo>
                  <a:cubicBezTo>
                    <a:pt x="1246" y="318"/>
                    <a:pt x="1280" y="314"/>
                    <a:pt x="1321" y="289"/>
                  </a:cubicBezTo>
                  <a:cubicBezTo>
                    <a:pt x="1328" y="252"/>
                    <a:pt x="1338" y="204"/>
                    <a:pt x="1302" y="175"/>
                  </a:cubicBezTo>
                  <a:cubicBezTo>
                    <a:pt x="1294" y="169"/>
                    <a:pt x="1282" y="170"/>
                    <a:pt x="1273" y="166"/>
                  </a:cubicBezTo>
                  <a:cubicBezTo>
                    <a:pt x="1126" y="104"/>
                    <a:pt x="1057" y="107"/>
                    <a:pt x="877" y="100"/>
                  </a:cubicBezTo>
                  <a:cubicBezTo>
                    <a:pt x="733" y="75"/>
                    <a:pt x="587" y="58"/>
                    <a:pt x="443" y="34"/>
                  </a:cubicBezTo>
                  <a:cubicBezTo>
                    <a:pt x="387" y="25"/>
                    <a:pt x="273" y="15"/>
                    <a:pt x="273" y="15"/>
                  </a:cubicBezTo>
                  <a:cubicBezTo>
                    <a:pt x="229" y="0"/>
                    <a:pt x="254" y="5"/>
                    <a:pt x="197" y="5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10600" y="6156360"/>
            <a:ext cx="5718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CHES FIRING VOLTAGE WITHIN 2 TIME CONSTANT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129200" y="6477120"/>
            <a:ext cx="5013360" cy="371520"/>
            <a:chOff x="4129200" y="6477120"/>
            <a:chExt cx="5013360" cy="371520"/>
          </a:xfrm>
        </p:grpSpPr>
        <p:pic>
          <p:nvPicPr>
            <p:cNvPr id="81" name="" descr=""/>
            <p:cNvPicPr/>
            <p:nvPr/>
          </p:nvPicPr>
          <p:blipFill>
            <a:blip r:embed="rId22"/>
            <a:stretch/>
          </p:blipFill>
          <p:spPr>
            <a:xfrm>
              <a:off x="8410680" y="6477120"/>
              <a:ext cx="7318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>
              <a:hlinkClick r:id="" action="ppaction://hlinkshowjump?jump=nextslide"/>
            </p:cNvPr>
            <p:cNvSpPr/>
            <p:nvPr/>
          </p:nvSpPr>
          <p:spPr>
            <a:xfrm>
              <a:off x="4662360" y="6615000"/>
              <a:ext cx="365400" cy="228600"/>
            </a:xfrm>
            <a:custGeom>
              <a:avLst/>
              <a:gdLst>
                <a:gd name="textAreaLeft" fmla="*/ 14760 w 365400"/>
                <a:gd name="textAreaRight" fmla="*/ 350640 w 36540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4506" h="21600">
                  <a:moveTo>
                    <a:pt x="0" y="0"/>
                  </a:moveTo>
                  <a:lnTo>
                    <a:pt x="34506" y="0"/>
                  </a:lnTo>
                  <a:lnTo>
                    <a:pt x="34506" y="21600"/>
                  </a:lnTo>
                  <a:lnTo>
                    <a:pt x="0" y="21600"/>
                  </a:lnTo>
                  <a:close/>
                </a:path>
                <a:path fill="lightenLess" w="34506" h="21600">
                  <a:moveTo>
                    <a:pt x="0" y="0"/>
                  </a:moveTo>
                  <a:lnTo>
                    <a:pt x="34506" y="0"/>
                  </a:lnTo>
                  <a:lnTo>
                    <a:pt x="33106" y="1400"/>
                  </a:lnTo>
                  <a:lnTo>
                    <a:pt x="1400" y="1400"/>
                  </a:lnTo>
                  <a:close/>
                </a:path>
                <a:path fill="darken" w="34506" h="21600">
                  <a:moveTo>
                    <a:pt x="34506" y="0"/>
                  </a:moveTo>
                  <a:lnTo>
                    <a:pt x="34506" y="21600"/>
                  </a:lnTo>
                  <a:lnTo>
                    <a:pt x="33106" y="20200"/>
                  </a:lnTo>
                  <a:lnTo>
                    <a:pt x="33106" y="1400"/>
                  </a:lnTo>
                  <a:close/>
                </a:path>
                <a:path fill="darkenLess" w="34506" h="21600">
                  <a:moveTo>
                    <a:pt x="3450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3106" y="20200"/>
                  </a:lnTo>
                  <a:close/>
                </a:path>
                <a:path fill="lighten" w="3450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4506" h="21600">
                  <a:moveTo>
                    <a:pt x="10246" y="3794"/>
                  </a:moveTo>
                  <a:lnTo>
                    <a:pt x="24259" y="10800"/>
                  </a:lnTo>
                  <a:lnTo>
                    <a:pt x="10246" y="1780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>
              <a:hlinkClick r:id="" action="ppaction://hlinkshowjump?jump=previousslide"/>
            </p:cNvPr>
            <p:cNvSpPr/>
            <p:nvPr/>
          </p:nvSpPr>
          <p:spPr>
            <a:xfrm>
              <a:off x="4129200" y="6620040"/>
              <a:ext cx="365040" cy="228600"/>
            </a:xfrm>
            <a:custGeom>
              <a:avLst/>
              <a:gdLst>
                <a:gd name="textAreaLeft" fmla="*/ 14760 w 365040"/>
                <a:gd name="textAreaRight" fmla="*/ 350280 w 36504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4472" h="21600">
                  <a:moveTo>
                    <a:pt x="0" y="0"/>
                  </a:moveTo>
                  <a:lnTo>
                    <a:pt x="34472" y="0"/>
                  </a:lnTo>
                  <a:lnTo>
                    <a:pt x="34472" y="21600"/>
                  </a:lnTo>
                  <a:lnTo>
                    <a:pt x="0" y="21600"/>
                  </a:lnTo>
                  <a:close/>
                </a:path>
                <a:path fill="lightenLess" w="34472" h="21600">
                  <a:moveTo>
                    <a:pt x="0" y="0"/>
                  </a:moveTo>
                  <a:lnTo>
                    <a:pt x="34472" y="0"/>
                  </a:lnTo>
                  <a:lnTo>
                    <a:pt x="33072" y="1400"/>
                  </a:lnTo>
                  <a:lnTo>
                    <a:pt x="1400" y="1400"/>
                  </a:lnTo>
                  <a:close/>
                </a:path>
                <a:path fill="darken" w="34472" h="21600">
                  <a:moveTo>
                    <a:pt x="34472" y="0"/>
                  </a:moveTo>
                  <a:lnTo>
                    <a:pt x="34472" y="21600"/>
                  </a:lnTo>
                  <a:lnTo>
                    <a:pt x="33072" y="20200"/>
                  </a:lnTo>
                  <a:lnTo>
                    <a:pt x="33072" y="1400"/>
                  </a:lnTo>
                  <a:close/>
                </a:path>
                <a:path fill="darkenLess" w="34472" h="21600">
                  <a:moveTo>
                    <a:pt x="3447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3072" y="20200"/>
                  </a:lnTo>
                  <a:close/>
                </a:path>
                <a:path fill="lighten" w="3447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4472" h="21600">
                  <a:moveTo>
                    <a:pt x="10229" y="10800"/>
                  </a:moveTo>
                  <a:lnTo>
                    <a:pt x="24242" y="3794"/>
                  </a:lnTo>
                  <a:lnTo>
                    <a:pt x="24242" y="1780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905040"/>
            <a:ext cx="4572000" cy="2692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394000" y="0"/>
                <a:ext cx="6300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SUCH  THAT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 OVERDAMPED, AND  SATISFIES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Reaches  1A within  100ms;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ays above 1A between  1s  and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232200" y="3792600"/>
            <a:ext cx="413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SWITCHING WE HAVE RL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0" y="4114800"/>
                <a:ext cx="311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8160" y="5105520"/>
                <a:ext cx="4152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-50760" y="4764240"/>
                <a:ext cx="4889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IRED  RESPONSE: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730080" y="5410080"/>
                <a:ext cx="2374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5410080" y="4280040"/>
                <a:ext cx="30099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ITIAL  CONDITION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6095880" y="548640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8680" y="5773680"/>
            <a:ext cx="4304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initial conditions analyze circu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=0+. Assume the circuit was in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prior to the 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876920" y="1066680"/>
            <a:ext cx="3657600" cy="3036960"/>
            <a:chOff x="4876920" y="1066680"/>
            <a:chExt cx="3657600" cy="3036960"/>
          </a:xfrm>
        </p:grpSpPr>
        <p:graphicFrame>
          <p:nvGraphicFramePr>
            <p:cNvPr id="345" name=""/>
            <p:cNvGraphicFramePr/>
            <p:nvPr/>
          </p:nvGraphicFramePr>
          <p:xfrm>
            <a:off x="4876920" y="1066680"/>
            <a:ext cx="3657600" cy="3036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1066680"/>
                      <a:ext cx="3657600" cy="303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7" name=""/>
            <p:cNvSpPr/>
            <p:nvPr/>
          </p:nvSpPr>
          <p:spPr>
            <a:xfrm>
              <a:off x="6881400" y="1201680"/>
              <a:ext cx="1604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t=0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6934320" y="2971800"/>
                  <a:ext cx="1282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762120" y="457200"/>
                <a:ext cx="2425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5060880" y="304920"/>
            <a:ext cx="39906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ONE CAN USE TRIAL AND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CAN ATTEMPT TO ESTIMAT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QUIRED CAPAC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1809720"/>
            <a:ext cx="9144000" cy="5048280"/>
            <a:chOff x="0" y="1809720"/>
            <a:chExt cx="9144000" cy="5048280"/>
          </a:xfrm>
        </p:grpSpPr>
        <p:pic>
          <p:nvPicPr>
            <p:cNvPr id="352" name="" descr=""/>
            <p:cNvPicPr/>
            <p:nvPr/>
          </p:nvPicPr>
          <p:blipFill>
            <a:blip r:embed="rId1"/>
            <a:stretch/>
          </p:blipFill>
          <p:spPr>
            <a:xfrm>
              <a:off x="0" y="1809720"/>
              <a:ext cx="9144000" cy="50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471600" y="1905120"/>
              <a:ext cx="1598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sh plo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btained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TL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68880" y="1430280"/>
            <a:ext cx="591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FEASIBLE, GET AN IDEA OF THE FAMILY OF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953240" y="2349360"/>
            <a:ext cx="3961800" cy="2008440"/>
            <a:chOff x="4953240" y="2349360"/>
            <a:chExt cx="3961800" cy="2008440"/>
          </a:xfrm>
        </p:grpSpPr>
        <p:sp>
          <p:nvSpPr>
            <p:cNvPr id="359" name=""/>
            <p:cNvSpPr/>
            <p:nvPr/>
          </p:nvSpPr>
          <p:spPr>
            <a:xfrm>
              <a:off x="4953240" y="2349360"/>
              <a:ext cx="396180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s=[[1:9]';[11:19]']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mesh(t,s,ils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view([37.5,30]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xlabel('time(s)'),ylabel('s_1(sec^{-1})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title('CURRENT AS FUNCTION OF MODES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09160" y="3533760"/>
              <a:ext cx="32547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ls is a matrix that contains 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uted responses, 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er colum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43640" y="76320"/>
            <a:ext cx="72216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14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isplays current as function of roots in characteristic eq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il(t)=(60/(s2-s1))*(exp(-s1*t)-exp(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with restriction s1+s2=20, s1~=s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=linspace(0,5,500)'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t display interval as a column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s=[]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reserve space to store cu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=1: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2=20-s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~=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=(60/(s2-s1))*(exp(-s1*t)-exp(-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s=[ils il]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ave new trace as a column in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ow with one command we plot all the columns as functions of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,ils), grid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CURRENT AS FUNCTION OF MODES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76320" y="3505320"/>
            <a:ext cx="8991360" cy="33145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2742120" y="0"/>
            <a:ext cx="54615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timate charge by estimating area under the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981080" y="3886200"/>
            <a:ext cx="4817520" cy="855720"/>
            <a:chOff x="1981080" y="3886200"/>
            <a:chExt cx="4817520" cy="855720"/>
          </a:xfrm>
        </p:grpSpPr>
        <p:sp>
          <p:nvSpPr>
            <p:cNvPr id="365" name=""/>
            <p:cNvSpPr/>
            <p:nvPr/>
          </p:nvSpPr>
          <p:spPr>
            <a:xfrm>
              <a:off x="2158560" y="3886200"/>
              <a:ext cx="46400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is curve the area is approx. 12 squa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284720"/>
              <a:ext cx="609480" cy="45720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384" y="0"/>
                  </a:moveTo>
                  <a:cubicBezTo>
                    <a:pt x="224" y="120"/>
                    <a:pt x="64" y="240"/>
                    <a:pt x="0" y="28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3505320" y="4419720"/>
                <a:ext cx="2654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≈</m:t>
                    </m:r>
                    <m:r>
                      <m:t xml:space="preserve">3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429000" y="464832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rPr>
                        <m:lit/>
                        <m:nor/>
                      </m:rPr>
                      <m:t xml:space="preserve">m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4800600" y="5257800"/>
                <a:ext cx="1460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6248520" y="5257800"/>
                <a:ext cx="1041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4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43640" y="152280"/>
            <a:ext cx="743436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8b22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=18.94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2=20-s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=(60/(s2-s1))*(exp(-s1*t)-exp(-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,il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,il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ERIFICATION OF DESIGN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472428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7308000" y="5774760"/>
            <a:ext cx="1826640" cy="1078560"/>
            <a:chOff x="7308000" y="5774760"/>
            <a:chExt cx="1826640" cy="1078560"/>
          </a:xfrm>
        </p:grpSpPr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8184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7308000" y="5774760"/>
              <a:ext cx="18266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914720" cy="2409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4160" y="6048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15120" y="28440"/>
            <a:ext cx="6171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OR CIRCUIT TO GENERATE HIGH VOLTAGE PUL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OM A SMALL DC VOLTAG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665360" y="538200"/>
            <a:ext cx="5905080" cy="1349280"/>
            <a:chOff x="1665360" y="538200"/>
            <a:chExt cx="5905080" cy="1349280"/>
          </a:xfrm>
        </p:grpSpPr>
        <p:sp>
          <p:nvSpPr>
            <p:cNvPr id="88" name=""/>
            <p:cNvSpPr/>
            <p:nvPr/>
          </p:nvSpPr>
          <p:spPr>
            <a:xfrm>
              <a:off x="3445560" y="669960"/>
              <a:ext cx="4124880" cy="3373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 pole-double throw (SPDT) 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65360" y="538200"/>
              <a:ext cx="1785960" cy="1349280"/>
            </a:xfrm>
            <a:custGeom>
              <a:avLst/>
              <a:gdLst/>
              <a:ahLst/>
              <a:rect l="l" t="t" r="r" b="b"/>
              <a:pathLst>
                <a:path w="1125" h="850">
                  <a:moveTo>
                    <a:pt x="1125" y="163"/>
                  </a:moveTo>
                  <a:cubicBezTo>
                    <a:pt x="1074" y="112"/>
                    <a:pt x="981" y="97"/>
                    <a:pt x="911" y="88"/>
                  </a:cubicBezTo>
                  <a:cubicBezTo>
                    <a:pt x="802" y="35"/>
                    <a:pt x="677" y="19"/>
                    <a:pt x="558" y="5"/>
                  </a:cubicBezTo>
                  <a:cubicBezTo>
                    <a:pt x="241" y="15"/>
                    <a:pt x="353" y="0"/>
                    <a:pt x="168" y="60"/>
                  </a:cubicBezTo>
                  <a:cubicBezTo>
                    <a:pt x="134" y="83"/>
                    <a:pt x="113" y="115"/>
                    <a:pt x="84" y="144"/>
                  </a:cubicBezTo>
                  <a:cubicBezTo>
                    <a:pt x="66" y="182"/>
                    <a:pt x="57" y="219"/>
                    <a:pt x="38" y="256"/>
                  </a:cubicBezTo>
                  <a:cubicBezTo>
                    <a:pt x="12" y="362"/>
                    <a:pt x="0" y="477"/>
                    <a:pt x="66" y="571"/>
                  </a:cubicBezTo>
                  <a:cubicBezTo>
                    <a:pt x="108" y="703"/>
                    <a:pt x="170" y="761"/>
                    <a:pt x="307" y="794"/>
                  </a:cubicBezTo>
                  <a:cubicBezTo>
                    <a:pt x="376" y="828"/>
                    <a:pt x="314" y="801"/>
                    <a:pt x="382" y="822"/>
                  </a:cubicBezTo>
                  <a:cubicBezTo>
                    <a:pt x="410" y="831"/>
                    <a:pt x="465" y="850"/>
                    <a:pt x="465" y="850"/>
                  </a:cubicBezTo>
                  <a:cubicBezTo>
                    <a:pt x="536" y="847"/>
                    <a:pt x="608" y="848"/>
                    <a:pt x="679" y="841"/>
                  </a:cubicBezTo>
                  <a:cubicBezTo>
                    <a:pt x="777" y="831"/>
                    <a:pt x="891" y="730"/>
                    <a:pt x="939" y="646"/>
                  </a:cubicBezTo>
                  <a:cubicBezTo>
                    <a:pt x="963" y="603"/>
                    <a:pt x="979" y="560"/>
                    <a:pt x="1013" y="525"/>
                  </a:cubicBezTo>
                  <a:cubicBezTo>
                    <a:pt x="1044" y="437"/>
                    <a:pt x="1064" y="340"/>
                    <a:pt x="1106" y="25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743200" y="1035000"/>
            <a:ext cx="5757120" cy="692280"/>
            <a:chOff x="2743200" y="1035000"/>
            <a:chExt cx="5757120" cy="692280"/>
          </a:xfrm>
        </p:grpSpPr>
        <p:graphicFrame>
          <p:nvGraphicFramePr>
            <p:cNvPr id="91" name=""/>
            <p:cNvGraphicFramePr/>
            <p:nvPr/>
          </p:nvGraphicFramePr>
          <p:xfrm>
            <a:off x="2743200" y="1447920"/>
            <a:ext cx="190440" cy="279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43200" y="1447920"/>
                      <a:ext cx="19044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4666680" y="1035000"/>
              <a:ext cx="3833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nected to battery for T1 seco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6320" y="3124080"/>
            <a:ext cx="4095720" cy="1326960"/>
            <a:chOff x="256320" y="3124080"/>
            <a:chExt cx="4095720" cy="1326960"/>
          </a:xfrm>
        </p:grpSpPr>
        <p:graphicFrame>
          <p:nvGraphicFramePr>
            <p:cNvPr id="95" name=""/>
            <p:cNvGraphicFramePr/>
            <p:nvPr/>
          </p:nvGraphicFramePr>
          <p:xfrm>
            <a:off x="270000" y="3124080"/>
            <a:ext cx="3576600" cy="722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0000" y="3124080"/>
                      <a:ext cx="3576600" cy="72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256320" y="3870360"/>
              <a:ext cx="4095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 through inductor when 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ves to pos2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28600" y="5715000"/>
            <a:ext cx="4435920" cy="660240"/>
            <a:chOff x="228600" y="5715000"/>
            <a:chExt cx="4435920" cy="660240"/>
          </a:xfrm>
        </p:grpSpPr>
        <p:graphicFrame>
          <p:nvGraphicFramePr>
            <p:cNvPr id="99" name=""/>
            <p:cNvGraphicFramePr/>
            <p:nvPr/>
          </p:nvGraphicFramePr>
          <p:xfrm>
            <a:off x="228600" y="5715000"/>
            <a:ext cx="2361960" cy="660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28600" y="5715000"/>
                      <a:ext cx="2361960" cy="66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2575800" y="5775120"/>
              <a:ext cx="2088720" cy="3373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52280" y="4511520"/>
            <a:ext cx="4876920" cy="1175040"/>
            <a:chOff x="152280" y="4511520"/>
            <a:chExt cx="4876920" cy="1175040"/>
          </a:xfrm>
        </p:grpSpPr>
        <p:graphicFrame>
          <p:nvGraphicFramePr>
            <p:cNvPr id="103" name=""/>
            <p:cNvGraphicFramePr/>
            <p:nvPr/>
          </p:nvGraphicFramePr>
          <p:xfrm>
            <a:off x="152280" y="4511520"/>
            <a:ext cx="4876920" cy="622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2280" y="4511520"/>
                      <a:ext cx="487692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1828800" y="5105520"/>
            <a:ext cx="609480" cy="581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28800" y="5105520"/>
                      <a:ext cx="609480" cy="5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7" name=""/>
          <p:cNvGrpSpPr/>
          <p:nvPr/>
        </p:nvGrpSpPr>
        <p:grpSpPr>
          <a:xfrm>
            <a:off x="5515920" y="1584360"/>
            <a:ext cx="1494360" cy="660240"/>
            <a:chOff x="5515920" y="1584360"/>
            <a:chExt cx="1494360" cy="660240"/>
          </a:xfrm>
        </p:grpSpPr>
        <p:sp>
          <p:nvSpPr>
            <p:cNvPr id="108" name=""/>
            <p:cNvSpPr/>
            <p:nvPr/>
          </p:nvSpPr>
          <p:spPr>
            <a:xfrm>
              <a:off x="5515920" y="1584360"/>
              <a:ext cx="1479240" cy="3373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SP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" name=""/>
            <p:cNvGraphicFramePr/>
            <p:nvPr/>
          </p:nvGraphicFramePr>
          <p:xfrm>
            <a:off x="5715000" y="1905120"/>
            <a:ext cx="1295280" cy="339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715000" y="1905120"/>
                      <a:ext cx="1295280" cy="33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1" name=""/>
          <p:cNvGrpSpPr/>
          <p:nvPr/>
        </p:nvGrpSpPr>
        <p:grpSpPr>
          <a:xfrm>
            <a:off x="5105520" y="2286000"/>
            <a:ext cx="2788200" cy="1083600"/>
            <a:chOff x="5105520" y="2286000"/>
            <a:chExt cx="2788200" cy="1083600"/>
          </a:xfrm>
        </p:grpSpPr>
        <p:graphicFrame>
          <p:nvGraphicFramePr>
            <p:cNvPr id="112" name=""/>
            <p:cNvGraphicFramePr/>
            <p:nvPr/>
          </p:nvGraphicFramePr>
          <p:xfrm>
            <a:off x="5105520" y="2286000"/>
            <a:ext cx="2743200" cy="5652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105520" y="2286000"/>
                      <a:ext cx="274320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5434560" y="3032280"/>
              <a:ext cx="24591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TO DISCHARCH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5" name=""/>
          <p:cNvGraphicFramePr/>
          <p:nvPr/>
        </p:nvGraphicFramePr>
        <p:xfrm>
          <a:off x="5562720" y="3429000"/>
          <a:ext cx="2666880" cy="666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562720" y="3429000"/>
                    <a:ext cx="26668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459400" y="4251240"/>
            <a:ext cx="3559320" cy="5806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5 time constants the voltag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low 1% of initial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35000" y="4937040"/>
            <a:ext cx="3108240" cy="5806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a safety margin and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bit more (1ms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8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760" y="0"/>
            <a:ext cx="2672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05120" y="0"/>
            <a:ext cx="211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ART PACEM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775040" y="41400"/>
            <a:ext cx="4368960" cy="3388320"/>
            <a:chOff x="4775040" y="41400"/>
            <a:chExt cx="4368960" cy="3388320"/>
          </a:xfrm>
        </p:grpSpPr>
        <p:grpSp>
          <p:nvGrpSpPr>
            <p:cNvPr id="125" name=""/>
            <p:cNvGrpSpPr/>
            <p:nvPr/>
          </p:nvGrpSpPr>
          <p:grpSpPr>
            <a:xfrm>
              <a:off x="4876920" y="41400"/>
              <a:ext cx="4267080" cy="3388320"/>
              <a:chOff x="4876920" y="41400"/>
              <a:chExt cx="4267080" cy="338832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5029200" y="41400"/>
                <a:ext cx="4114800" cy="1177920"/>
                <a:chOff x="5029200" y="41400"/>
                <a:chExt cx="4114800" cy="1177920"/>
              </a:xfrm>
            </p:grpSpPr>
            <p:graphicFrame>
              <p:nvGraphicFramePr>
                <p:cNvPr id="127" name=""/>
                <p:cNvGraphicFramePr/>
                <p:nvPr/>
              </p:nvGraphicFramePr>
              <p:xfrm>
                <a:off x="5029200" y="41400"/>
                <a:ext cx="4114800" cy="11779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2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029200" y="41400"/>
                          <a:ext cx="4114800" cy="1177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mc:AlternateContent>
              <mc:Choice xmlns:a14="http://schemas.microsoft.com/office/drawing/2010/main" Requires="a14">
                <p:sp>
                  <p:nvSpPr>
                    <p:cNvPr id="129" name=""/>
                    <p:cNvSpPr txBox="1"/>
                    <p:nvPr/>
                  </p:nvSpPr>
                  <p:spPr>
                    <a:xfrm>
                      <a:off x="8824680" y="513720"/>
                      <a:ext cx="177120" cy="189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μ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aphicFrame>
            <p:nvGraphicFramePr>
              <p:cNvPr id="130" name=""/>
              <p:cNvGraphicFramePr/>
              <p:nvPr/>
            </p:nvGraphicFramePr>
            <p:xfrm>
              <a:off x="4876920" y="1187280"/>
              <a:ext cx="3292200" cy="1951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76920" y="1187280"/>
                        <a:ext cx="3292200" cy="1951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2" name=""/>
              <p:cNvSpPr/>
              <p:nvPr/>
            </p:nvSpPr>
            <p:spPr>
              <a:xfrm>
                <a:off x="6130800" y="1474920"/>
                <a:ext cx="231264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implified SCR mod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81280" y="3092400"/>
                <a:ext cx="12412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CR “fires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4775040" y="1760400"/>
                  <a:ext cx="5590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μ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"/>
          <p:cNvGrpSpPr/>
          <p:nvPr/>
        </p:nvGrpSpPr>
        <p:grpSpPr>
          <a:xfrm>
            <a:off x="0" y="3505320"/>
            <a:ext cx="4114800" cy="2171520"/>
            <a:chOff x="0" y="3505320"/>
            <a:chExt cx="4114800" cy="2171520"/>
          </a:xfrm>
        </p:grpSpPr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0" y="3754440"/>
              <a:ext cx="411480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3840" y="3505320"/>
              <a:ext cx="1764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rging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0120" y="5773680"/>
            <a:ext cx="4410000" cy="841320"/>
            <a:chOff x="60120" y="5773680"/>
            <a:chExt cx="4410000" cy="841320"/>
          </a:xfrm>
        </p:grpSpPr>
        <p:sp>
          <p:nvSpPr>
            <p:cNvPr id="139" name=""/>
            <p:cNvSpPr/>
            <p:nvPr/>
          </p:nvSpPr>
          <p:spPr>
            <a:xfrm>
              <a:off x="60120" y="5773680"/>
              <a:ext cx="4410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soon as the SCR switches off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starts charging. Hence, assum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1219320" y="6324480"/>
                  <a:ext cx="1054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72000" y="3429000"/>
                <a:ext cx="2298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962520"/>
                <a:ext cx="1511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72000" y="42670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572000" y="4572000"/>
                <a:ext cx="2171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7010280" y="4114800"/>
                <a:ext cx="825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257800" y="4876920"/>
                <a:ext cx="2362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297360" y="2344680"/>
            <a:ext cx="4085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R so that the SCR is ready to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one second of capacitor char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952880" y="5410080"/>
                <a:ext cx="33912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876920" y="5943600"/>
                <a:ext cx="2311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162920" y="6095880"/>
                <a:ext cx="133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238880" y="632448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0" y="360360"/>
            <a:ext cx="45720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280" y="368280"/>
            <a:ext cx="4038840" cy="2222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19112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4480" y="58680"/>
            <a:ext cx="2459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DISCHARGE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360" y="2573280"/>
            <a:ext cx="4521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e chosen resistor discharge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one second and the capacitor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6320" y="3429000"/>
                <a:ext cx="25398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666880" y="342900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666880" y="373392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0" y="4038480"/>
                <a:ext cx="4622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73200" y="4419720"/>
                <a:ext cx="2438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80880" y="5105520"/>
                <a:ext cx="3162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9</m:t>
                            </m:r>
                          </m:den>
                        </m:f>
                      </m:sup>
                    </m:sSup>
                    <m:r>
                      <m:t xml:space="preserve">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180720" y="5697360"/>
            <a:ext cx="3451320" cy="347760"/>
            <a:chOff x="180720" y="5697360"/>
            <a:chExt cx="3451320" cy="347760"/>
          </a:xfrm>
        </p:grpSpPr>
        <p:sp>
          <p:nvSpPr>
            <p:cNvPr id="170" name=""/>
            <p:cNvSpPr/>
            <p:nvPr/>
          </p:nvSpPr>
          <p:spPr>
            <a:xfrm>
              <a:off x="180720" y="5697360"/>
              <a:ext cx="1770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SCR turn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2057400" y="5715000"/>
                  <a:ext cx="1574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f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04920" y="6121440"/>
                <a:ext cx="2666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9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4796280" y="-22320"/>
            <a:ext cx="4340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visualizes one cycle of pacema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harge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au=0.569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c=linspace(0,1,20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=6-5.8*exp(-tc/tau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ischarge cycle. SCR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d=linspace(1,1.11,2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d=-22.45+27.45*exp(-(td-1)/tau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c,vc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d,vcd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gri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ACEMAKER CYCLE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oltage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CR off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CR on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2603520" cy="2971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7360" y="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06960" y="0"/>
            <a:ext cx="4918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AND CONTROL OF “INDUCTIVE KICK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76080" y="669960"/>
            <a:ext cx="6403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PEAK VOLTAGES ACROSS INDUCTOR AND SWIT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in steady state is 1A before 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895480" y="1374840"/>
            <a:ext cx="2286000" cy="1596960"/>
            <a:chOff x="2895480" y="1374840"/>
            <a:chExt cx="2286000" cy="1596960"/>
          </a:xfrm>
        </p:grpSpPr>
        <p:graphicFrame>
          <p:nvGraphicFramePr>
            <p:cNvPr id="180" name=""/>
            <p:cNvGraphicFramePr/>
            <p:nvPr/>
          </p:nvGraphicFramePr>
          <p:xfrm>
            <a:off x="2895480" y="1374840"/>
            <a:ext cx="2286000" cy="450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95480" y="1374840"/>
                      <a:ext cx="228600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2" name=""/>
            <p:cNvGraphicFramePr/>
            <p:nvPr/>
          </p:nvGraphicFramePr>
          <p:xfrm>
            <a:off x="2895480" y="1881360"/>
            <a:ext cx="1828800" cy="1090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95480" y="1881360"/>
                      <a:ext cx="1828800" cy="10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4" name=""/>
          <p:cNvGrpSpPr/>
          <p:nvPr/>
        </p:nvGrpSpPr>
        <p:grpSpPr>
          <a:xfrm>
            <a:off x="5486400" y="1295280"/>
            <a:ext cx="3124080" cy="1217880"/>
            <a:chOff x="5486400" y="1295280"/>
            <a:chExt cx="3124080" cy="1217880"/>
          </a:xfrm>
        </p:grpSpPr>
        <p:graphicFrame>
          <p:nvGraphicFramePr>
            <p:cNvPr id="185" name=""/>
            <p:cNvGraphicFramePr/>
            <p:nvPr/>
          </p:nvGraphicFramePr>
          <p:xfrm>
            <a:off x="5486400" y="1978200"/>
            <a:ext cx="3098880" cy="534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486400" y="1978200"/>
                      <a:ext cx="309888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7" name=""/>
            <p:cNvGraphicFramePr/>
            <p:nvPr/>
          </p:nvGraphicFramePr>
          <p:xfrm>
            <a:off x="5486400" y="1295280"/>
            <a:ext cx="3124080" cy="657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486400" y="1295280"/>
                      <a:ext cx="312408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"/>
          <p:cNvGrpSpPr/>
          <p:nvPr/>
        </p:nvGrpSpPr>
        <p:grpSpPr>
          <a:xfrm>
            <a:off x="0" y="3429000"/>
            <a:ext cx="3429000" cy="3293280"/>
            <a:chOff x="0" y="3429000"/>
            <a:chExt cx="3429000" cy="3293280"/>
          </a:xfrm>
        </p:grpSpPr>
        <p:pic>
          <p:nvPicPr>
            <p:cNvPr id="190" name="" descr=""/>
            <p:cNvPicPr/>
            <p:nvPr/>
          </p:nvPicPr>
          <p:blipFill>
            <a:blip r:embed="rId10"/>
            <a:stretch/>
          </p:blipFill>
          <p:spPr>
            <a:xfrm>
              <a:off x="0" y="3429000"/>
              <a:ext cx="3429000" cy="29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71240" y="6384960"/>
              <a:ext cx="2369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to control ki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133720" y="2532240"/>
            <a:ext cx="6781680" cy="1080720"/>
            <a:chOff x="2133720" y="2532240"/>
            <a:chExt cx="6781680" cy="1080720"/>
          </a:xfrm>
        </p:grpSpPr>
        <p:grpSp>
          <p:nvGrpSpPr>
            <p:cNvPr id="193" name=""/>
            <p:cNvGrpSpPr/>
            <p:nvPr/>
          </p:nvGrpSpPr>
          <p:grpSpPr>
            <a:xfrm>
              <a:off x="5317920" y="2532240"/>
              <a:ext cx="3597480" cy="1080720"/>
              <a:chOff x="5317920" y="2532240"/>
              <a:chExt cx="3597480" cy="1080720"/>
            </a:xfrm>
          </p:grpSpPr>
          <p:graphicFrame>
            <p:nvGraphicFramePr>
              <p:cNvPr id="194" name=""/>
              <p:cNvGraphicFramePr/>
              <p:nvPr/>
            </p:nvGraphicFramePr>
            <p:xfrm>
              <a:off x="5410080" y="2532240"/>
              <a:ext cx="3505320" cy="4284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9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410080" y="2532240"/>
                        <a:ext cx="3505320" cy="42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6" name=""/>
              <p:cNvSpPr/>
              <p:nvPr/>
            </p:nvSpPr>
            <p:spPr>
              <a:xfrm>
                <a:off x="5317920" y="3032280"/>
                <a:ext cx="3589920" cy="580680"/>
              </a:xfrm>
              <a:prstGeom prst="rect">
                <a:avLst/>
              </a:pr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rying to make discontinuous th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or current!!!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97" name=""/>
            <p:cNvGraphicFramePr/>
            <p:nvPr/>
          </p:nvGraphicFramePr>
          <p:xfrm>
            <a:off x="2133720" y="3139920"/>
            <a:ext cx="3276360" cy="373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133720" y="3139920"/>
                      <a:ext cx="3276360" cy="3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9" name=""/>
          <p:cNvGraphicFramePr/>
          <p:nvPr/>
        </p:nvGraphicFramePr>
        <p:xfrm>
          <a:off x="2446200" y="3809880"/>
          <a:ext cx="2041560" cy="1089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46200" y="3809880"/>
                    <a:ext cx="204156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4425120" y="3809880"/>
            <a:ext cx="4780080" cy="3373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is now second order and may oscil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0200" y="4191120"/>
            <a:ext cx="3967920" cy="1363680"/>
            <a:chOff x="4570200" y="4191120"/>
            <a:chExt cx="3967920" cy="1363680"/>
          </a:xfrm>
        </p:grpSpPr>
        <p:graphicFrame>
          <p:nvGraphicFramePr>
            <p:cNvPr id="203" name=""/>
            <p:cNvGraphicFramePr/>
            <p:nvPr/>
          </p:nvGraphicFramePr>
          <p:xfrm>
            <a:off x="5181480" y="4191120"/>
            <a:ext cx="3124440" cy="6364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81480" y="4191120"/>
                      <a:ext cx="3124440" cy="63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05" name=""/>
            <p:cNvGrpSpPr/>
            <p:nvPr/>
          </p:nvGrpSpPr>
          <p:grpSpPr>
            <a:xfrm>
              <a:off x="4570200" y="4937040"/>
              <a:ext cx="3967920" cy="617760"/>
              <a:chOff x="4570200" y="4937040"/>
              <a:chExt cx="3967920" cy="617760"/>
            </a:xfrm>
          </p:grpSpPr>
          <p:sp>
            <p:nvSpPr>
              <p:cNvPr id="206" name=""/>
              <p:cNvSpPr/>
              <p:nvPr/>
            </p:nvSpPr>
            <p:spPr>
              <a:xfrm>
                <a:off x="4570200" y="4937040"/>
                <a:ext cx="3967920" cy="580680"/>
              </a:xfrm>
              <a:prstGeom prst="rect">
                <a:avLst/>
              </a:pr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elect R, C for adequate damping a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atural frequency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07" name=""/>
              <p:cNvGraphicFramePr/>
              <p:nvPr/>
            </p:nvGraphicFramePr>
            <p:xfrm>
              <a:off x="6559560" y="5257800"/>
              <a:ext cx="1739880" cy="29700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208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6559560" y="5257800"/>
                        <a:ext cx="1739880" cy="29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09" name=""/>
          <p:cNvGrpSpPr/>
          <p:nvPr/>
        </p:nvGrpSpPr>
        <p:grpSpPr>
          <a:xfrm>
            <a:off x="4648320" y="5562720"/>
            <a:ext cx="4123800" cy="620640"/>
            <a:chOff x="4648320" y="5562720"/>
            <a:chExt cx="4123800" cy="620640"/>
          </a:xfrm>
        </p:grpSpPr>
        <p:graphicFrame>
          <p:nvGraphicFramePr>
            <p:cNvPr id="210" name=""/>
            <p:cNvGraphicFramePr/>
            <p:nvPr/>
          </p:nvGraphicFramePr>
          <p:xfrm>
            <a:off x="4648320" y="5562720"/>
            <a:ext cx="2438280" cy="620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648320" y="5562720"/>
                      <a:ext cx="2438280" cy="6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7331040" y="5622840"/>
              <a:ext cx="1441080" cy="3373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2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124080" y="4952880"/>
            <a:ext cx="4876920" cy="1751040"/>
            <a:chOff x="3124080" y="4952880"/>
            <a:chExt cx="4876920" cy="1751040"/>
          </a:xfrm>
        </p:grpSpPr>
        <p:graphicFrame>
          <p:nvGraphicFramePr>
            <p:cNvPr id="217" name=""/>
            <p:cNvGraphicFramePr/>
            <p:nvPr/>
          </p:nvGraphicFramePr>
          <p:xfrm>
            <a:off x="5334120" y="6343560"/>
            <a:ext cx="2666880" cy="36036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5334120" y="6343560"/>
                      <a:ext cx="26668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9" name=""/>
            <p:cNvGraphicFramePr/>
            <p:nvPr/>
          </p:nvGraphicFramePr>
          <p:xfrm>
            <a:off x="3124080" y="4952880"/>
            <a:ext cx="1447920" cy="32544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3124080" y="4952880"/>
                      <a:ext cx="144792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1" name=""/>
          <p:cNvGrpSpPr/>
          <p:nvPr/>
        </p:nvGrpSpPr>
        <p:grpSpPr>
          <a:xfrm>
            <a:off x="2639880" y="5214960"/>
            <a:ext cx="1620360" cy="1445760"/>
            <a:chOff x="2639880" y="5214960"/>
            <a:chExt cx="1620360" cy="1445760"/>
          </a:xfrm>
        </p:grpSpPr>
        <p:sp>
          <p:nvSpPr>
            <p:cNvPr id="222" name=""/>
            <p:cNvSpPr/>
            <p:nvPr/>
          </p:nvSpPr>
          <p:spPr>
            <a:xfrm>
              <a:off x="2639880" y="5214960"/>
              <a:ext cx="1076400" cy="1244520"/>
            </a:xfrm>
            <a:custGeom>
              <a:avLst/>
              <a:gdLst/>
              <a:ahLst/>
              <a:rect l="l" t="t" r="r" b="b"/>
              <a:pathLst>
                <a:path w="678" h="784">
                  <a:moveTo>
                    <a:pt x="260" y="22"/>
                  </a:moveTo>
                  <a:cubicBezTo>
                    <a:pt x="191" y="0"/>
                    <a:pt x="116" y="0"/>
                    <a:pt x="56" y="41"/>
                  </a:cubicBezTo>
                  <a:cubicBezTo>
                    <a:pt x="15" y="102"/>
                    <a:pt x="9" y="173"/>
                    <a:pt x="0" y="245"/>
                  </a:cubicBezTo>
                  <a:cubicBezTo>
                    <a:pt x="9" y="298"/>
                    <a:pt x="17" y="358"/>
                    <a:pt x="46" y="403"/>
                  </a:cubicBezTo>
                  <a:cubicBezTo>
                    <a:pt x="69" y="488"/>
                    <a:pt x="118" y="571"/>
                    <a:pt x="167" y="645"/>
                  </a:cubicBezTo>
                  <a:cubicBezTo>
                    <a:pt x="179" y="664"/>
                    <a:pt x="188" y="685"/>
                    <a:pt x="204" y="701"/>
                  </a:cubicBezTo>
                  <a:cubicBezTo>
                    <a:pt x="221" y="718"/>
                    <a:pt x="248" y="745"/>
                    <a:pt x="269" y="756"/>
                  </a:cubicBezTo>
                  <a:cubicBezTo>
                    <a:pt x="287" y="765"/>
                    <a:pt x="306" y="769"/>
                    <a:pt x="325" y="775"/>
                  </a:cubicBezTo>
                  <a:cubicBezTo>
                    <a:pt x="334" y="778"/>
                    <a:pt x="353" y="784"/>
                    <a:pt x="353" y="784"/>
                  </a:cubicBezTo>
                  <a:cubicBezTo>
                    <a:pt x="425" y="778"/>
                    <a:pt x="458" y="773"/>
                    <a:pt x="520" y="756"/>
                  </a:cubicBezTo>
                  <a:cubicBezTo>
                    <a:pt x="538" y="745"/>
                    <a:pt x="559" y="740"/>
                    <a:pt x="576" y="728"/>
                  </a:cubicBezTo>
                  <a:cubicBezTo>
                    <a:pt x="606" y="708"/>
                    <a:pt x="625" y="670"/>
                    <a:pt x="650" y="645"/>
                  </a:cubicBezTo>
                  <a:cubicBezTo>
                    <a:pt x="653" y="633"/>
                    <a:pt x="656" y="620"/>
                    <a:pt x="660" y="608"/>
                  </a:cubicBezTo>
                  <a:cubicBezTo>
                    <a:pt x="666" y="589"/>
                    <a:pt x="678" y="552"/>
                    <a:pt x="678" y="552"/>
                  </a:cubicBezTo>
                  <a:cubicBezTo>
                    <a:pt x="675" y="475"/>
                    <a:pt x="676" y="397"/>
                    <a:pt x="669" y="320"/>
                  </a:cubicBezTo>
                  <a:cubicBezTo>
                    <a:pt x="664" y="265"/>
                    <a:pt x="613" y="194"/>
                    <a:pt x="585" y="152"/>
                  </a:cubicBezTo>
                  <a:cubicBezTo>
                    <a:pt x="577" y="139"/>
                    <a:pt x="559" y="136"/>
                    <a:pt x="548" y="125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45760" y="6080040"/>
              <a:ext cx="101448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nub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3581280" cy="2695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67480" y="6276960"/>
            <a:ext cx="8667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current at the beginning of ON period MUST be the same than the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he end of OFF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05240" y="76320"/>
            <a:ext cx="236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OSTER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8640" y="2895480"/>
            <a:ext cx="3221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NDARD DC POWER 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28600" y="3581280"/>
            <a:ext cx="8772480" cy="2630520"/>
            <a:chOff x="228600" y="3581280"/>
            <a:chExt cx="8772480" cy="2630520"/>
          </a:xfrm>
        </p:grpSpPr>
        <p:graphicFrame>
          <p:nvGraphicFramePr>
            <p:cNvPr id="230" name=""/>
            <p:cNvGraphicFramePr/>
            <p:nvPr/>
          </p:nvGraphicFramePr>
          <p:xfrm>
            <a:off x="228600" y="3581280"/>
            <a:ext cx="8772480" cy="1812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3581280"/>
                      <a:ext cx="8772480" cy="181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" name=""/>
            <p:cNvSpPr/>
            <p:nvPr/>
          </p:nvSpPr>
          <p:spPr>
            <a:xfrm>
              <a:off x="1187280" y="5387760"/>
              <a:ext cx="3029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OSTER “ON”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 is stored in ind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dischar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41280" y="5329080"/>
              <a:ext cx="27730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OSTER “OFF” 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releases energ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char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25040" y="228600"/>
            <a:ext cx="137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g. boo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0" y="398520"/>
            <a:ext cx="45720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52280" y="380880"/>
          <a:ext cx="441972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441972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347760" y="58680"/>
            <a:ext cx="179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“ON”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2120" y="2209680"/>
                <a:ext cx="3759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43" name=""/>
          <p:cNvGrpSpPr/>
          <p:nvPr/>
        </p:nvGrpSpPr>
        <p:grpSpPr>
          <a:xfrm>
            <a:off x="0" y="3092400"/>
            <a:ext cx="4038480" cy="2102040"/>
            <a:chOff x="0" y="3092400"/>
            <a:chExt cx="4038480" cy="2102040"/>
          </a:xfrm>
        </p:grpSpPr>
        <p:grpSp>
          <p:nvGrpSpPr>
            <p:cNvPr id="244" name=""/>
            <p:cNvGrpSpPr/>
            <p:nvPr/>
          </p:nvGrpSpPr>
          <p:grpSpPr>
            <a:xfrm>
              <a:off x="0" y="3092400"/>
              <a:ext cx="4038480" cy="2102040"/>
              <a:chOff x="0" y="3092400"/>
              <a:chExt cx="4038480" cy="2102040"/>
            </a:xfrm>
          </p:grpSpPr>
          <p:graphicFrame>
            <p:nvGraphicFramePr>
              <p:cNvPr id="245" name=""/>
              <p:cNvGraphicFramePr/>
              <p:nvPr/>
            </p:nvGraphicFramePr>
            <p:xfrm>
              <a:off x="0" y="3429000"/>
              <a:ext cx="4038480" cy="1765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3429000"/>
                        <a:ext cx="4038480" cy="176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7" name=""/>
              <p:cNvSpPr/>
              <p:nvPr/>
            </p:nvSpPr>
            <p:spPr>
              <a:xfrm>
                <a:off x="298080" y="3092400"/>
                <a:ext cx="18496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HE “OFF” CYC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2286000" y="313848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&gt;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28600" y="5105520"/>
                <a:ext cx="32385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50" name=""/>
          <p:cNvGrpSpPr/>
          <p:nvPr/>
        </p:nvGrpSpPr>
        <p:grpSpPr>
          <a:xfrm>
            <a:off x="45720" y="5943600"/>
            <a:ext cx="4304520" cy="841320"/>
            <a:chOff x="45720" y="5943600"/>
            <a:chExt cx="4304520" cy="841320"/>
          </a:xfrm>
        </p:grpSpPr>
        <p:sp>
          <p:nvSpPr>
            <p:cNvPr id="251" name=""/>
            <p:cNvSpPr/>
            <p:nvPr/>
          </p:nvSpPr>
          <p:spPr>
            <a:xfrm>
              <a:off x="45720" y="5943600"/>
              <a:ext cx="43045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IFYING ASSUMPTION: THE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(Vo)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1371600" y="6494400"/>
                  <a:ext cx="1168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10080" y="228600"/>
                <a:ext cx="2210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257800" y="914400"/>
                <a:ext cx="2717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800600" y="1523880"/>
                <a:ext cx="1562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400800" y="16765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nce  boost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638680" y="2286000"/>
                <a:ext cx="2362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iod:     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ty cycle: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943600" y="3429000"/>
                <a:ext cx="1270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5009040" y="4249800"/>
            <a:ext cx="37576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adjusting the duty cycle one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just the output voltag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70560" y="-15840"/>
            <a:ext cx="5761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OF ELECTRIC HEATER USING A 24V SOURC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 OHM HEATING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495680" y="609480"/>
          <a:ext cx="2210040" cy="2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609480"/>
                    <a:ext cx="221004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7" name=""/>
          <p:cNvGrpSpPr/>
          <p:nvPr/>
        </p:nvGrpSpPr>
        <p:grpSpPr>
          <a:xfrm>
            <a:off x="76320" y="593640"/>
            <a:ext cx="2114280" cy="1959120"/>
            <a:chOff x="76320" y="593640"/>
            <a:chExt cx="2114280" cy="1959120"/>
          </a:xfrm>
        </p:grpSpPr>
        <p:pic>
          <p:nvPicPr>
            <p:cNvPr id="268" name="" descr=""/>
            <p:cNvPicPr/>
            <p:nvPr/>
          </p:nvPicPr>
          <p:blipFill>
            <a:blip r:embed="rId3"/>
            <a:stretch/>
          </p:blipFill>
          <p:spPr>
            <a:xfrm>
              <a:off x="76320" y="990720"/>
              <a:ext cx="2114280" cy="15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98960" y="593640"/>
              <a:ext cx="1451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lution 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2057400" y="609480"/>
            <a:ext cx="2324160" cy="5907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2362320" y="1219320"/>
            <a:ext cx="5333760" cy="1619280"/>
          </a:xfrm>
          <a:prstGeom prst="rect">
            <a:avLst/>
          </a:prstGeom>
          <a:ln w="25560">
            <a:solidFill>
              <a:srgbClr val="66ffcc"/>
            </a:solidFill>
            <a:miter/>
          </a:ln>
        </p:spPr>
      </p:pic>
      <p:sp>
        <p:nvSpPr>
          <p:cNvPr id="272" name=""/>
          <p:cNvSpPr/>
          <p:nvPr/>
        </p:nvSpPr>
        <p:spPr>
          <a:xfrm>
            <a:off x="7772400" y="1279440"/>
            <a:ext cx="1290600" cy="10674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o mu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lost in rheost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0" y="3124080"/>
            <a:ext cx="3276360" cy="3308040"/>
            <a:chOff x="0" y="3124080"/>
            <a:chExt cx="3276360" cy="3308040"/>
          </a:xfrm>
        </p:grpSpPr>
        <p:pic>
          <p:nvPicPr>
            <p:cNvPr id="274" name="" descr=""/>
            <p:cNvPicPr/>
            <p:nvPr/>
          </p:nvPicPr>
          <p:blipFill>
            <a:blip r:embed="rId6"/>
            <a:stretch/>
          </p:blipFill>
          <p:spPr>
            <a:xfrm>
              <a:off x="0" y="3124080"/>
              <a:ext cx="327636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449640" y="5851440"/>
              <a:ext cx="2375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WITCHED I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819520" y="2955960"/>
            <a:ext cx="3504960" cy="834840"/>
            <a:chOff x="2819520" y="2955960"/>
            <a:chExt cx="3504960" cy="834840"/>
          </a:xfrm>
        </p:grpSpPr>
        <p:pic>
          <p:nvPicPr>
            <p:cNvPr id="277" name="" descr=""/>
            <p:cNvPicPr/>
            <p:nvPr/>
          </p:nvPicPr>
          <p:blipFill>
            <a:blip r:embed="rId7"/>
            <a:stretch/>
          </p:blipFill>
          <p:spPr>
            <a:xfrm>
              <a:off x="2819520" y="3124080"/>
              <a:ext cx="35049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890440" y="2955960"/>
              <a:ext cx="70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482520" y="3048120"/>
            <a:ext cx="2642400" cy="504720"/>
            <a:chOff x="6482520" y="3048120"/>
            <a:chExt cx="2642400" cy="504720"/>
          </a:xfrm>
        </p:grpSpPr>
        <p:pic>
          <p:nvPicPr>
            <p:cNvPr id="280" name="" descr=""/>
            <p:cNvPicPr/>
            <p:nvPr/>
          </p:nvPicPr>
          <p:blipFill>
            <a:blip r:embed="rId8"/>
            <a:stretch/>
          </p:blipFill>
          <p:spPr>
            <a:xfrm>
              <a:off x="7239240" y="3048120"/>
              <a:ext cx="18856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82520" y="3168720"/>
              <a:ext cx="70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9"/>
          <a:stretch/>
        </p:blipFill>
        <p:spPr>
          <a:xfrm>
            <a:off x="3276720" y="3962520"/>
            <a:ext cx="4662360" cy="23619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241960" y="4098960"/>
            <a:ext cx="3708360" cy="8240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rolling switching frequency one controls I_peak and average power … And no power los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5381640" cy="2257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7360" y="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22440" y="-15840"/>
            <a:ext cx="6197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DECOUPLING CAPACITOR TO ISOLATE LOAD FROM VARIATION IN SUPPLY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04280" y="685800"/>
            <a:ext cx="1303920" cy="2619000"/>
            <a:chOff x="4004280" y="685800"/>
            <a:chExt cx="1303920" cy="2619000"/>
          </a:xfrm>
        </p:grpSpPr>
        <p:sp>
          <p:nvSpPr>
            <p:cNvPr id="291" name=""/>
            <p:cNvSpPr/>
            <p:nvPr/>
          </p:nvSpPr>
          <p:spPr>
            <a:xfrm>
              <a:off x="4027320" y="685800"/>
              <a:ext cx="854280" cy="2184480"/>
            </a:xfrm>
            <a:custGeom>
              <a:avLst/>
              <a:gdLst/>
              <a:ahLst/>
              <a:rect l="l" t="t" r="r" b="b"/>
              <a:pathLst>
                <a:path w="538" h="1376">
                  <a:moveTo>
                    <a:pt x="510" y="613"/>
                  </a:moveTo>
                  <a:cubicBezTo>
                    <a:pt x="527" y="550"/>
                    <a:pt x="532" y="494"/>
                    <a:pt x="538" y="427"/>
                  </a:cubicBezTo>
                  <a:cubicBezTo>
                    <a:pt x="530" y="308"/>
                    <a:pt x="520" y="204"/>
                    <a:pt x="482" y="92"/>
                  </a:cubicBezTo>
                  <a:cubicBezTo>
                    <a:pt x="467" y="48"/>
                    <a:pt x="465" y="15"/>
                    <a:pt x="417" y="0"/>
                  </a:cubicBezTo>
                  <a:cubicBezTo>
                    <a:pt x="337" y="10"/>
                    <a:pt x="326" y="23"/>
                    <a:pt x="259" y="55"/>
                  </a:cubicBezTo>
                  <a:cubicBezTo>
                    <a:pt x="242" y="72"/>
                    <a:pt x="220" y="84"/>
                    <a:pt x="204" y="102"/>
                  </a:cubicBezTo>
                  <a:cubicBezTo>
                    <a:pt x="145" y="169"/>
                    <a:pt x="130" y="223"/>
                    <a:pt x="111" y="306"/>
                  </a:cubicBezTo>
                  <a:cubicBezTo>
                    <a:pt x="101" y="349"/>
                    <a:pt x="83" y="436"/>
                    <a:pt x="83" y="436"/>
                  </a:cubicBezTo>
                  <a:cubicBezTo>
                    <a:pt x="70" y="597"/>
                    <a:pt x="47" y="757"/>
                    <a:pt x="36" y="919"/>
                  </a:cubicBezTo>
                  <a:cubicBezTo>
                    <a:pt x="44" y="1128"/>
                    <a:pt x="0" y="1244"/>
                    <a:pt x="166" y="1356"/>
                  </a:cubicBezTo>
                  <a:cubicBezTo>
                    <a:pt x="190" y="1372"/>
                    <a:pt x="222" y="1368"/>
                    <a:pt x="250" y="1375"/>
                  </a:cubicBezTo>
                  <a:cubicBezTo>
                    <a:pt x="281" y="1370"/>
                    <a:pt x="318" y="1376"/>
                    <a:pt x="343" y="1356"/>
                  </a:cubicBezTo>
                  <a:cubicBezTo>
                    <a:pt x="404" y="1308"/>
                    <a:pt x="320" y="1342"/>
                    <a:pt x="389" y="1319"/>
                  </a:cubicBezTo>
                  <a:cubicBezTo>
                    <a:pt x="395" y="1310"/>
                    <a:pt x="400" y="1299"/>
                    <a:pt x="408" y="1291"/>
                  </a:cubicBezTo>
                  <a:cubicBezTo>
                    <a:pt x="416" y="1283"/>
                    <a:pt x="430" y="1282"/>
                    <a:pt x="436" y="1272"/>
                  </a:cubicBezTo>
                  <a:cubicBezTo>
                    <a:pt x="472" y="1214"/>
                    <a:pt x="464" y="1141"/>
                    <a:pt x="464" y="107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04280" y="2724120"/>
              <a:ext cx="13039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coup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76320" y="5181480"/>
            <a:ext cx="3429000" cy="425520"/>
          </a:xfrm>
          <a:prstGeom prst="rect">
            <a:avLst/>
          </a:prstGeom>
          <a:ln w="0">
            <a:noFill/>
          </a:ln>
        </p:spPr>
      </p:pic>
      <p:grpSp>
        <p:nvGrpSpPr>
          <p:cNvPr id="294" name=""/>
          <p:cNvGrpSpPr/>
          <p:nvPr/>
        </p:nvGrpSpPr>
        <p:grpSpPr>
          <a:xfrm>
            <a:off x="0" y="3352680"/>
            <a:ext cx="7394400" cy="1861560"/>
            <a:chOff x="0" y="3352680"/>
            <a:chExt cx="7394400" cy="1861560"/>
          </a:xfrm>
        </p:grpSpPr>
        <p:pic>
          <p:nvPicPr>
            <p:cNvPr id="295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7134120" cy="15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20560" y="4844880"/>
              <a:ext cx="180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t=0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02040" y="4876920"/>
              <a:ext cx="3492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ADY STATE AFTER 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76320" y="5638680"/>
            <a:ext cx="4981320" cy="4572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2374920" y="5334120"/>
            <a:ext cx="1612800" cy="718920"/>
            <a:chOff x="2374920" y="5334120"/>
            <a:chExt cx="1612800" cy="718920"/>
          </a:xfrm>
        </p:grpSpPr>
        <p:sp>
          <p:nvSpPr>
            <p:cNvPr id="300" name=""/>
            <p:cNvSpPr/>
            <p:nvPr/>
          </p:nvSpPr>
          <p:spPr>
            <a:xfrm>
              <a:off x="2374920" y="5556240"/>
              <a:ext cx="1519200" cy="496800"/>
            </a:xfrm>
            <a:custGeom>
              <a:avLst/>
              <a:gdLst/>
              <a:ahLst/>
              <a:rect l="l" t="t" r="r" b="b"/>
              <a:pathLst>
                <a:path w="957" h="313">
                  <a:moveTo>
                    <a:pt x="158" y="160"/>
                  </a:moveTo>
                  <a:cubicBezTo>
                    <a:pt x="147" y="111"/>
                    <a:pt x="142" y="93"/>
                    <a:pt x="93" y="77"/>
                  </a:cubicBezTo>
                  <a:cubicBezTo>
                    <a:pt x="25" y="86"/>
                    <a:pt x="19" y="82"/>
                    <a:pt x="0" y="142"/>
                  </a:cubicBezTo>
                  <a:cubicBezTo>
                    <a:pt x="10" y="221"/>
                    <a:pt x="15" y="272"/>
                    <a:pt x="93" y="300"/>
                  </a:cubicBezTo>
                  <a:cubicBezTo>
                    <a:pt x="130" y="287"/>
                    <a:pt x="145" y="272"/>
                    <a:pt x="158" y="235"/>
                  </a:cubicBezTo>
                  <a:cubicBezTo>
                    <a:pt x="155" y="207"/>
                    <a:pt x="142" y="178"/>
                    <a:pt x="148" y="151"/>
                  </a:cubicBezTo>
                  <a:cubicBezTo>
                    <a:pt x="157" y="110"/>
                    <a:pt x="240" y="86"/>
                    <a:pt x="269" y="77"/>
                  </a:cubicBezTo>
                  <a:cubicBezTo>
                    <a:pt x="348" y="52"/>
                    <a:pt x="258" y="58"/>
                    <a:pt x="362" y="40"/>
                  </a:cubicBezTo>
                  <a:cubicBezTo>
                    <a:pt x="427" y="28"/>
                    <a:pt x="492" y="21"/>
                    <a:pt x="557" y="12"/>
                  </a:cubicBezTo>
                  <a:cubicBezTo>
                    <a:pt x="944" y="25"/>
                    <a:pt x="728" y="0"/>
                    <a:pt x="882" y="49"/>
                  </a:cubicBezTo>
                  <a:cubicBezTo>
                    <a:pt x="909" y="88"/>
                    <a:pt x="940" y="115"/>
                    <a:pt x="957" y="160"/>
                  </a:cubicBezTo>
                  <a:cubicBezTo>
                    <a:pt x="948" y="212"/>
                    <a:pt x="953" y="234"/>
                    <a:pt x="910" y="263"/>
                  </a:cubicBezTo>
                  <a:cubicBezTo>
                    <a:pt x="877" y="313"/>
                    <a:pt x="833" y="310"/>
                    <a:pt x="780" y="281"/>
                  </a:cubicBezTo>
                  <a:cubicBezTo>
                    <a:pt x="760" y="270"/>
                    <a:pt x="724" y="244"/>
                    <a:pt x="724" y="244"/>
                  </a:cubicBezTo>
                  <a:cubicBezTo>
                    <a:pt x="712" y="225"/>
                    <a:pt x="687" y="188"/>
                    <a:pt x="687" y="18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1" name=""/>
            <p:cNvGraphicFramePr/>
            <p:nvPr/>
          </p:nvGraphicFramePr>
          <p:xfrm>
            <a:off x="3505320" y="5334120"/>
            <a:ext cx="482400" cy="27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05320" y="5334120"/>
                      <a:ext cx="48240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3" name=""/>
          <p:cNvGrpSpPr/>
          <p:nvPr/>
        </p:nvGrpSpPr>
        <p:grpSpPr>
          <a:xfrm>
            <a:off x="2757600" y="5410080"/>
            <a:ext cx="2639880" cy="917640"/>
            <a:chOff x="2757600" y="5410080"/>
            <a:chExt cx="2639880" cy="917640"/>
          </a:xfrm>
        </p:grpSpPr>
        <p:sp>
          <p:nvSpPr>
            <p:cNvPr id="304" name=""/>
            <p:cNvSpPr/>
            <p:nvPr/>
          </p:nvSpPr>
          <p:spPr>
            <a:xfrm>
              <a:off x="2757600" y="5526000"/>
              <a:ext cx="2381040" cy="801720"/>
            </a:xfrm>
            <a:custGeom>
              <a:avLst/>
              <a:gdLst/>
              <a:ahLst/>
              <a:rect l="l" t="t" r="r" b="b"/>
              <a:pathLst>
                <a:path w="1500" h="505">
                  <a:moveTo>
                    <a:pt x="270" y="152"/>
                  </a:moveTo>
                  <a:cubicBezTo>
                    <a:pt x="237" y="86"/>
                    <a:pt x="239" y="85"/>
                    <a:pt x="168" y="68"/>
                  </a:cubicBezTo>
                  <a:cubicBezTo>
                    <a:pt x="114" y="78"/>
                    <a:pt x="72" y="87"/>
                    <a:pt x="37" y="133"/>
                  </a:cubicBezTo>
                  <a:cubicBezTo>
                    <a:pt x="23" y="151"/>
                    <a:pt x="0" y="189"/>
                    <a:pt x="0" y="189"/>
                  </a:cubicBezTo>
                  <a:cubicBezTo>
                    <a:pt x="4" y="205"/>
                    <a:pt x="11" y="243"/>
                    <a:pt x="28" y="254"/>
                  </a:cubicBezTo>
                  <a:cubicBezTo>
                    <a:pt x="45" y="264"/>
                    <a:pt x="84" y="272"/>
                    <a:pt x="84" y="272"/>
                  </a:cubicBezTo>
                  <a:cubicBezTo>
                    <a:pt x="93" y="278"/>
                    <a:pt x="101" y="287"/>
                    <a:pt x="112" y="291"/>
                  </a:cubicBezTo>
                  <a:cubicBezTo>
                    <a:pt x="136" y="300"/>
                    <a:pt x="186" y="309"/>
                    <a:pt x="186" y="309"/>
                  </a:cubicBezTo>
                  <a:cubicBezTo>
                    <a:pt x="234" y="300"/>
                    <a:pt x="254" y="300"/>
                    <a:pt x="270" y="254"/>
                  </a:cubicBezTo>
                  <a:cubicBezTo>
                    <a:pt x="325" y="272"/>
                    <a:pt x="274" y="249"/>
                    <a:pt x="316" y="291"/>
                  </a:cubicBezTo>
                  <a:cubicBezTo>
                    <a:pt x="343" y="318"/>
                    <a:pt x="424" y="382"/>
                    <a:pt x="456" y="393"/>
                  </a:cubicBezTo>
                  <a:cubicBezTo>
                    <a:pt x="563" y="430"/>
                    <a:pt x="659" y="481"/>
                    <a:pt x="771" y="505"/>
                  </a:cubicBezTo>
                  <a:cubicBezTo>
                    <a:pt x="1026" y="485"/>
                    <a:pt x="934" y="505"/>
                    <a:pt x="1050" y="477"/>
                  </a:cubicBezTo>
                  <a:cubicBezTo>
                    <a:pt x="1102" y="450"/>
                    <a:pt x="1152" y="445"/>
                    <a:pt x="1208" y="430"/>
                  </a:cubicBezTo>
                  <a:cubicBezTo>
                    <a:pt x="1251" y="402"/>
                    <a:pt x="1292" y="370"/>
                    <a:pt x="1338" y="347"/>
                  </a:cubicBezTo>
                  <a:cubicBezTo>
                    <a:pt x="1347" y="338"/>
                    <a:pt x="1355" y="327"/>
                    <a:pt x="1366" y="319"/>
                  </a:cubicBezTo>
                  <a:cubicBezTo>
                    <a:pt x="1377" y="311"/>
                    <a:pt x="1392" y="309"/>
                    <a:pt x="1403" y="300"/>
                  </a:cubicBezTo>
                  <a:cubicBezTo>
                    <a:pt x="1458" y="254"/>
                    <a:pt x="1385" y="284"/>
                    <a:pt x="1450" y="263"/>
                  </a:cubicBezTo>
                  <a:cubicBezTo>
                    <a:pt x="1468" y="235"/>
                    <a:pt x="1477" y="207"/>
                    <a:pt x="1496" y="179"/>
                  </a:cubicBezTo>
                  <a:cubicBezTo>
                    <a:pt x="1492" y="142"/>
                    <a:pt x="1500" y="97"/>
                    <a:pt x="1477" y="68"/>
                  </a:cubicBezTo>
                  <a:cubicBezTo>
                    <a:pt x="1450" y="33"/>
                    <a:pt x="1357" y="26"/>
                    <a:pt x="1320" y="21"/>
                  </a:cubicBezTo>
                  <a:cubicBezTo>
                    <a:pt x="1267" y="14"/>
                    <a:pt x="1162" y="3"/>
                    <a:pt x="1162" y="3"/>
                  </a:cubicBezTo>
                  <a:cubicBezTo>
                    <a:pt x="1097" y="7"/>
                    <a:pt x="1028" y="0"/>
                    <a:pt x="966" y="21"/>
                  </a:cubicBezTo>
                  <a:cubicBezTo>
                    <a:pt x="956" y="25"/>
                    <a:pt x="949" y="35"/>
                    <a:pt x="939" y="40"/>
                  </a:cubicBezTo>
                  <a:cubicBezTo>
                    <a:pt x="930" y="44"/>
                    <a:pt x="920" y="46"/>
                    <a:pt x="911" y="49"/>
                  </a:cubicBezTo>
                  <a:cubicBezTo>
                    <a:pt x="870" y="77"/>
                    <a:pt x="795" y="94"/>
                    <a:pt x="846" y="14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5" name=""/>
            <p:cNvGraphicFramePr/>
            <p:nvPr/>
          </p:nvGraphicFramePr>
          <p:xfrm>
            <a:off x="5029200" y="5410080"/>
            <a:ext cx="368280" cy="279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29200" y="5410080"/>
                      <a:ext cx="36828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7" name=""/>
          <p:cNvGrpSpPr/>
          <p:nvPr/>
        </p:nvGrpSpPr>
        <p:grpSpPr>
          <a:xfrm>
            <a:off x="76320" y="6172200"/>
            <a:ext cx="7929000" cy="488520"/>
            <a:chOff x="76320" y="6172200"/>
            <a:chExt cx="7929000" cy="488520"/>
          </a:xfrm>
        </p:grpSpPr>
        <p:pic>
          <p:nvPicPr>
            <p:cNvPr id="308" name="" descr=""/>
            <p:cNvPicPr/>
            <p:nvPr/>
          </p:nvPicPr>
          <p:blipFill>
            <a:blip r:embed="rId9"/>
            <a:stretch/>
          </p:blipFill>
          <p:spPr>
            <a:xfrm>
              <a:off x="76320" y="6183000"/>
              <a:ext cx="2666880" cy="477720"/>
            </a:xfrm>
            <a:prstGeom prst="rect">
              <a:avLst/>
            </a:prstGeom>
            <a:ln w="25560">
              <a:solidFill>
                <a:srgbClr val="66ffcc"/>
              </a:solidFill>
              <a:miter/>
            </a:ln>
          </p:spPr>
        </p:pic>
        <p:sp>
          <p:nvSpPr>
            <p:cNvPr id="309" name=""/>
            <p:cNvSpPr/>
            <p:nvPr/>
          </p:nvSpPr>
          <p:spPr>
            <a:xfrm>
              <a:off x="2850120" y="6172200"/>
              <a:ext cx="5155200" cy="3373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 FOR DECOUPLING 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5840" y="944640"/>
            <a:ext cx="3870360" cy="2555640"/>
            <a:chOff x="15840" y="944640"/>
            <a:chExt cx="3870360" cy="2555640"/>
          </a:xfrm>
        </p:grpSpPr>
        <p:grpSp>
          <p:nvGrpSpPr>
            <p:cNvPr id="311" name=""/>
            <p:cNvGrpSpPr/>
            <p:nvPr/>
          </p:nvGrpSpPr>
          <p:grpSpPr>
            <a:xfrm>
              <a:off x="15840" y="944640"/>
              <a:ext cx="1843920" cy="2379240"/>
              <a:chOff x="15840" y="944640"/>
              <a:chExt cx="1843920" cy="2379240"/>
            </a:xfrm>
          </p:grpSpPr>
          <p:sp>
            <p:nvSpPr>
              <p:cNvPr id="312" name=""/>
              <p:cNvSpPr/>
              <p:nvPr/>
            </p:nvSpPr>
            <p:spPr>
              <a:xfrm>
                <a:off x="36000" y="2743200"/>
                <a:ext cx="182376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model f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upply vari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5840" y="944640"/>
                <a:ext cx="1792440" cy="1903320"/>
              </a:xfrm>
              <a:custGeom>
                <a:avLst/>
                <a:gdLst/>
                <a:ahLst/>
                <a:rect l="l" t="t" r="r" b="b"/>
                <a:pathLst>
                  <a:path w="1129" h="1199">
                    <a:moveTo>
                      <a:pt x="864" y="270"/>
                    </a:moveTo>
                    <a:cubicBezTo>
                      <a:pt x="807" y="224"/>
                      <a:pt x="749" y="193"/>
                      <a:pt x="687" y="158"/>
                    </a:cubicBezTo>
                    <a:cubicBezTo>
                      <a:pt x="596" y="107"/>
                      <a:pt x="665" y="132"/>
                      <a:pt x="604" y="112"/>
                    </a:cubicBezTo>
                    <a:cubicBezTo>
                      <a:pt x="576" y="84"/>
                      <a:pt x="557" y="68"/>
                      <a:pt x="520" y="56"/>
                    </a:cubicBezTo>
                    <a:cubicBezTo>
                      <a:pt x="465" y="19"/>
                      <a:pt x="381" y="9"/>
                      <a:pt x="316" y="0"/>
                    </a:cubicBezTo>
                    <a:cubicBezTo>
                      <a:pt x="247" y="7"/>
                      <a:pt x="210" y="13"/>
                      <a:pt x="149" y="28"/>
                    </a:cubicBezTo>
                    <a:cubicBezTo>
                      <a:pt x="116" y="50"/>
                      <a:pt x="88" y="69"/>
                      <a:pt x="65" y="102"/>
                    </a:cubicBezTo>
                    <a:cubicBezTo>
                      <a:pt x="26" y="218"/>
                      <a:pt x="54" y="119"/>
                      <a:pt x="37" y="325"/>
                    </a:cubicBezTo>
                    <a:cubicBezTo>
                      <a:pt x="32" y="383"/>
                      <a:pt x="14" y="445"/>
                      <a:pt x="0" y="502"/>
                    </a:cubicBezTo>
                    <a:cubicBezTo>
                      <a:pt x="9" y="658"/>
                      <a:pt x="42" y="810"/>
                      <a:pt x="56" y="966"/>
                    </a:cubicBezTo>
                    <a:cubicBezTo>
                      <a:pt x="64" y="1051"/>
                      <a:pt x="52" y="1139"/>
                      <a:pt x="130" y="1189"/>
                    </a:cubicBezTo>
                    <a:cubicBezTo>
                      <a:pt x="142" y="1186"/>
                      <a:pt x="155" y="1184"/>
                      <a:pt x="167" y="1180"/>
                    </a:cubicBezTo>
                    <a:cubicBezTo>
                      <a:pt x="186" y="1175"/>
                      <a:pt x="223" y="1162"/>
                      <a:pt x="223" y="1162"/>
                    </a:cubicBezTo>
                    <a:cubicBezTo>
                      <a:pt x="371" y="1167"/>
                      <a:pt x="491" y="1174"/>
                      <a:pt x="632" y="1199"/>
                    </a:cubicBezTo>
                    <a:cubicBezTo>
                      <a:pt x="775" y="1192"/>
                      <a:pt x="791" y="1195"/>
                      <a:pt x="892" y="1171"/>
                    </a:cubicBezTo>
                    <a:cubicBezTo>
                      <a:pt x="973" y="1130"/>
                      <a:pt x="1051" y="1086"/>
                      <a:pt x="1106" y="1013"/>
                    </a:cubicBezTo>
                    <a:cubicBezTo>
                      <a:pt x="1123" y="944"/>
                      <a:pt x="1129" y="869"/>
                      <a:pt x="1087" y="809"/>
                    </a:cubicBezTo>
                    <a:cubicBezTo>
                      <a:pt x="1066" y="744"/>
                      <a:pt x="1007" y="669"/>
                      <a:pt x="966" y="613"/>
                    </a:cubicBezTo>
                    <a:cubicBezTo>
                      <a:pt x="941" y="537"/>
                      <a:pt x="881" y="466"/>
                      <a:pt x="836" y="400"/>
                    </a:cubicBezTo>
                    <a:cubicBezTo>
                      <a:pt x="833" y="391"/>
                      <a:pt x="820" y="379"/>
                      <a:pt x="827" y="372"/>
                    </a:cubicBezTo>
                    <a:cubicBezTo>
                      <a:pt x="879" y="320"/>
                      <a:pt x="873" y="396"/>
                      <a:pt x="873" y="34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314" name=""/>
            <p:cNvGraphicFramePr/>
            <p:nvPr/>
          </p:nvGraphicFramePr>
          <p:xfrm>
            <a:off x="1981080" y="2666880"/>
            <a:ext cx="1905120" cy="833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981080" y="2666880"/>
                      <a:ext cx="1905120" cy="8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6" name=""/>
          <p:cNvGrpSpPr/>
          <p:nvPr/>
        </p:nvGrpSpPr>
        <p:grpSpPr>
          <a:xfrm>
            <a:off x="5867280" y="898560"/>
            <a:ext cx="3110400" cy="2006640"/>
            <a:chOff x="5867280" y="898560"/>
            <a:chExt cx="3110400" cy="2006640"/>
          </a:xfrm>
        </p:grpSpPr>
        <p:grpSp>
          <p:nvGrpSpPr>
            <p:cNvPr id="317" name=""/>
            <p:cNvGrpSpPr/>
            <p:nvPr/>
          </p:nvGrpSpPr>
          <p:grpSpPr>
            <a:xfrm>
              <a:off x="5867280" y="898560"/>
              <a:ext cx="3110400" cy="2006640"/>
              <a:chOff x="5867280" y="898560"/>
              <a:chExt cx="3110400" cy="2006640"/>
            </a:xfrm>
          </p:grpSpPr>
          <p:pic>
            <p:nvPicPr>
              <p:cNvPr id="31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867280" y="990720"/>
                <a:ext cx="2772000" cy="191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"/>
              <p:cNvSpPr/>
              <p:nvPr/>
            </p:nvSpPr>
            <p:spPr>
              <a:xfrm>
                <a:off x="6609960" y="898560"/>
                <a:ext cx="236772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Qualitative oper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6934320" y="2041560"/>
              <a:ext cx="2002680" cy="337320"/>
              <a:chOff x="6934320" y="2041560"/>
              <a:chExt cx="2002680" cy="337320"/>
            </a:xfrm>
          </p:grpSpPr>
          <p:sp>
            <p:nvSpPr>
              <p:cNvPr id="321" name=""/>
              <p:cNvSpPr/>
              <p:nvPr/>
            </p:nvSpPr>
            <p:spPr>
              <a:xfrm>
                <a:off x="7467480" y="2057400"/>
                <a:ext cx="609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934320" y="2362320"/>
                <a:ext cx="1295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57560" y="2041560"/>
                <a:ext cx="1279440" cy="3373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cceptab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6810480" y="2895480"/>
            <a:ext cx="2333520" cy="962280"/>
            <a:chOff x="6810480" y="2895480"/>
            <a:chExt cx="2333520" cy="962280"/>
          </a:xfrm>
        </p:grpSpPr>
        <p:pic>
          <p:nvPicPr>
            <p:cNvPr id="325" name="" descr=""/>
            <p:cNvPicPr/>
            <p:nvPr/>
          </p:nvPicPr>
          <p:blipFill>
            <a:blip r:embed="rId13"/>
            <a:stretch/>
          </p:blipFill>
          <p:spPr>
            <a:xfrm>
              <a:off x="6810480" y="3200400"/>
              <a:ext cx="2333520" cy="6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14"/>
            <a:stretch/>
          </p:blipFill>
          <p:spPr>
            <a:xfrm>
              <a:off x="7010280" y="2895480"/>
              <a:ext cx="1752840" cy="3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7" name="" descr=""/>
          <p:cNvPicPr/>
          <p:nvPr/>
        </p:nvPicPr>
        <p:blipFill>
          <a:blip r:embed="rId1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1T09:02:51Z</dcterms:created>
  <dc:creator>Jorge Aravena</dc:creator>
  <dc:description/>
  <dc:language>en-US</dc:language>
  <cp:lastModifiedBy>Jorge Aravena</cp:lastModifiedBy>
  <dcterms:modified xsi:type="dcterms:W3CDTF">2004-08-21T04:17:01Z</dcterms:modified>
  <cp:revision>8</cp:revision>
  <dc:subject/>
  <dc:title>No Slide Title</dc:title>
</cp:coreProperties>
</file>